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D60-B5A9-409C-AEF9-92F4D585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6BC-B740-4551-8F65-6133BA54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8FE-6D06-4651-A043-FC69F177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E2A-9CA3-4CEB-B857-59328BDC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AEC7-F025-41BF-9A2C-ACA302F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A505-2669-401D-AF12-B12636D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976E-572A-431D-AACB-2FEFA95F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6516-DA1C-4EE8-982D-5BCA03D7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84AC-AC1D-41BC-BB2B-E03F2311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5265-2CA1-4738-99DE-39C4B179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CDB3-EAC8-4B48-97DB-6BA4C42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D81-2A04-4F3C-B8D1-2B9A2966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2EC4-FAE6-414D-BCD5-7D67F4D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100C-9300-4537-B9D9-629C242F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C640-450C-4B5E-BA54-38EEBE36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4261-FEE2-458C-93F0-4224116A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8B68-B9C2-4677-A6C3-DCD422D5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02F-855C-4C21-9175-51FA2D7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3F5-C5E6-4337-B830-B8132A9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324-6930-4853-ADA1-4EC9D687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053-E2D0-49D5-A7D0-8372CED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BF6-B0E7-4A24-AB8A-0A45D791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246-836B-41E0-BECB-0401EAA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549-9231-46F8-A906-2DACFD6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A9D-C425-424F-9EEB-C6EB94822A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8078-3E95-42F7-8B43-416283E454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Opener: MSA Review Day 8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Find the area of the triang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Base= 12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ight=3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Base= 4c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ight= 24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Area = 12yd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ight= 6yd    Base = ??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29160" y="322200"/>
            <a:ext cx="527040" cy="384120"/>
          </a:xfrm>
          <a:custGeom>
            <a:avLst/>
            <a:gdLst/>
            <a:ahLst/>
            <a:rect l="l" t="t" r="r" b="b"/>
            <a:pathLst>
              <a:path w="1465" h="1068">
                <a:moveTo>
                  <a:pt x="15255" y="1588"/>
                </a:moveTo>
                <a:cubicBezTo>
                  <a:pt x="15364" y="1544"/>
                  <a:pt x="15498" y="1566"/>
                  <a:pt x="15602" y="1513"/>
                </a:cubicBezTo>
                <a:cubicBezTo>
                  <a:pt x="15627" y="1500"/>
                  <a:pt x="15550" y="1521"/>
                  <a:pt x="15528" y="1538"/>
                </a:cubicBezTo>
              </a:path>
              <a:path w="1465" h="1068">
                <a:moveTo>
                  <a:pt x="15478" y="1141"/>
                </a:moveTo>
                <a:cubicBezTo>
                  <a:pt x="15361" y="1375"/>
                  <a:pt x="15281" y="1630"/>
                  <a:pt x="15156" y="1860"/>
                </a:cubicBezTo>
                <a:cubicBezTo>
                  <a:pt x="15101" y="1933"/>
                  <a:pt x="15076" y="2000"/>
                  <a:pt x="15081" y="1935"/>
                </a:cubicBezTo>
                <a:cubicBezTo>
                  <a:pt x="15212" y="1696"/>
                  <a:pt x="15320" y="1434"/>
                  <a:pt x="15453" y="1191"/>
                </a:cubicBezTo>
                <a:cubicBezTo>
                  <a:pt x="15540" y="1032"/>
                  <a:pt x="15551" y="953"/>
                  <a:pt x="15701" y="893"/>
                </a:cubicBezTo>
                <a:cubicBezTo>
                  <a:pt x="15819" y="1153"/>
                  <a:pt x="15760" y="1385"/>
                  <a:pt x="15652" y="1662"/>
                </a:cubicBezTo>
                <a:cubicBezTo>
                  <a:pt x="15594" y="1778"/>
                  <a:pt x="15585" y="1794"/>
                  <a:pt x="15553" y="1860"/>
                </a:cubicBezTo>
              </a:path>
              <a:path w="1465" h="1068">
                <a:moveTo>
                  <a:pt x="16173" y="1414"/>
                </a:moveTo>
                <a:cubicBezTo>
                  <a:pt x="16298" y="1378"/>
                  <a:pt x="16402" y="1345"/>
                  <a:pt x="16520" y="1389"/>
                </a:cubicBezTo>
              </a:path>
              <a:path w="1465" h="1068">
                <a:moveTo>
                  <a:pt x="16148" y="1588"/>
                </a:moveTo>
                <a:cubicBezTo>
                  <a:pt x="16311" y="1611"/>
                  <a:pt x="16388" y="1607"/>
                  <a:pt x="16545" y="156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3120" y="438120"/>
            <a:ext cx="384120" cy="490680"/>
          </a:xfrm>
          <a:custGeom>
            <a:avLst/>
            <a:gdLst/>
            <a:ahLst/>
            <a:rect l="l" t="t" r="r" b="b"/>
            <a:pathLst>
              <a:path w="1068" h="1366">
                <a:moveTo>
                  <a:pt x="17264" y="1215"/>
                </a:moveTo>
                <a:cubicBezTo>
                  <a:pt x="17229" y="1409"/>
                  <a:pt x="17168" y="1616"/>
                  <a:pt x="17115" y="1811"/>
                </a:cubicBezTo>
                <a:cubicBezTo>
                  <a:pt x="17096" y="1868"/>
                  <a:pt x="17087" y="1875"/>
                  <a:pt x="17090" y="1910"/>
                </a:cubicBezTo>
                <a:cubicBezTo>
                  <a:pt x="17100" y="1754"/>
                  <a:pt x="17159" y="1636"/>
                  <a:pt x="17190" y="1488"/>
                </a:cubicBezTo>
                <a:cubicBezTo>
                  <a:pt x="17200" y="1440"/>
                  <a:pt x="17258" y="1387"/>
                  <a:pt x="17214" y="1364"/>
                </a:cubicBezTo>
                <a:cubicBezTo>
                  <a:pt x="17186" y="1364"/>
                  <a:pt x="17181" y="1361"/>
                  <a:pt x="17214" y="1339"/>
                </a:cubicBezTo>
              </a:path>
              <a:path w="1068" h="1366">
                <a:moveTo>
                  <a:pt x="17214" y="1662"/>
                </a:moveTo>
                <a:cubicBezTo>
                  <a:pt x="17284" y="1627"/>
                  <a:pt x="17338" y="1539"/>
                  <a:pt x="17438" y="1513"/>
                </a:cubicBezTo>
                <a:cubicBezTo>
                  <a:pt x="17454" y="1513"/>
                  <a:pt x="17471" y="1513"/>
                  <a:pt x="17487" y="1513"/>
                </a:cubicBezTo>
                <a:cubicBezTo>
                  <a:pt x="17512" y="1654"/>
                  <a:pt x="17546" y="1836"/>
                  <a:pt x="17338" y="1860"/>
                </a:cubicBezTo>
                <a:cubicBezTo>
                  <a:pt x="17243" y="1837"/>
                  <a:pt x="17214" y="1831"/>
                  <a:pt x="17165" y="1786"/>
                </a:cubicBezTo>
              </a:path>
              <a:path w="1068" h="1366">
                <a:moveTo>
                  <a:pt x="17636" y="1215"/>
                </a:moveTo>
                <a:cubicBezTo>
                  <a:pt x="17636" y="1397"/>
                  <a:pt x="17636" y="1579"/>
                  <a:pt x="17636" y="1761"/>
                </a:cubicBezTo>
                <a:cubicBezTo>
                  <a:pt x="17704" y="1653"/>
                  <a:pt x="17818" y="1461"/>
                  <a:pt x="17983" y="1488"/>
                </a:cubicBezTo>
                <a:cubicBezTo>
                  <a:pt x="18125" y="1511"/>
                  <a:pt x="18100" y="1749"/>
                  <a:pt x="18058" y="1836"/>
                </a:cubicBezTo>
                <a:cubicBezTo>
                  <a:pt x="18013" y="1880"/>
                  <a:pt x="17996" y="1890"/>
                  <a:pt x="18008" y="1935"/>
                </a:cubicBezTo>
              </a:path>
              <a:path w="1068" h="1366">
                <a:moveTo>
                  <a:pt x="17165" y="1960"/>
                </a:moveTo>
                <a:cubicBezTo>
                  <a:pt x="17462" y="1917"/>
                  <a:pt x="17734" y="1930"/>
                  <a:pt x="18033" y="1935"/>
                </a:cubicBezTo>
                <a:cubicBezTo>
                  <a:pt x="18111" y="1935"/>
                  <a:pt x="18129" y="1920"/>
                  <a:pt x="18157" y="1960"/>
                </a:cubicBezTo>
              </a:path>
              <a:path w="1068" h="1366">
                <a:moveTo>
                  <a:pt x="17388" y="2282"/>
                </a:moveTo>
                <a:cubicBezTo>
                  <a:pt x="17460" y="2228"/>
                  <a:pt x="17519" y="2192"/>
                  <a:pt x="17611" y="2158"/>
                </a:cubicBezTo>
                <a:cubicBezTo>
                  <a:pt x="17678" y="2133"/>
                  <a:pt x="17717" y="2133"/>
                  <a:pt x="17785" y="2133"/>
                </a:cubicBezTo>
                <a:cubicBezTo>
                  <a:pt x="17800" y="2334"/>
                  <a:pt x="17687" y="2369"/>
                  <a:pt x="17512" y="2456"/>
                </a:cubicBezTo>
                <a:cubicBezTo>
                  <a:pt x="17426" y="2499"/>
                  <a:pt x="17364" y="2519"/>
                  <a:pt x="17314" y="2580"/>
                </a:cubicBezTo>
                <a:cubicBezTo>
                  <a:pt x="17409" y="2539"/>
                  <a:pt x="17478" y="2471"/>
                  <a:pt x="17587" y="2456"/>
                </a:cubicBezTo>
                <a:cubicBezTo>
                  <a:pt x="17667" y="2445"/>
                  <a:pt x="17740" y="2518"/>
                  <a:pt x="17835" y="2505"/>
                </a:cubicBezTo>
                <a:cubicBezTo>
                  <a:pt x="17892" y="2486"/>
                  <a:pt x="17899" y="2477"/>
                  <a:pt x="17934" y="24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313000"/>
            <a:ext cx="2571840" cy="955800"/>
          </a:xfrm>
          <a:custGeom>
            <a:avLst/>
            <a:gdLst/>
            <a:ahLst/>
            <a:rect l="l" t="t" r="r" b="b"/>
            <a:pathLst>
              <a:path w="7144" h="2656">
                <a:moveTo>
                  <a:pt x="16396" y="6548"/>
                </a:moveTo>
                <a:cubicBezTo>
                  <a:pt x="16377" y="6714"/>
                  <a:pt x="16341" y="6884"/>
                  <a:pt x="16297" y="7045"/>
                </a:cubicBezTo>
                <a:cubicBezTo>
                  <a:pt x="16297" y="7037"/>
                  <a:pt x="16297" y="7028"/>
                  <a:pt x="16297" y="7020"/>
                </a:cubicBezTo>
                <a:cubicBezTo>
                  <a:pt x="16321" y="6836"/>
                  <a:pt x="16383" y="6653"/>
                  <a:pt x="16495" y="6499"/>
                </a:cubicBezTo>
                <a:cubicBezTo>
                  <a:pt x="16520" y="6474"/>
                  <a:pt x="16545" y="6449"/>
                  <a:pt x="16570" y="6424"/>
                </a:cubicBezTo>
                <a:cubicBezTo>
                  <a:pt x="16688" y="6543"/>
                  <a:pt x="16731" y="6720"/>
                  <a:pt x="16718" y="6896"/>
                </a:cubicBezTo>
                <a:cubicBezTo>
                  <a:pt x="16714" y="6947"/>
                  <a:pt x="16694" y="7004"/>
                  <a:pt x="16669" y="7020"/>
                </a:cubicBezTo>
              </a:path>
              <a:path w="7144" h="2656">
                <a:moveTo>
                  <a:pt x="16371" y="6821"/>
                </a:moveTo>
                <a:cubicBezTo>
                  <a:pt x="16536" y="6766"/>
                  <a:pt x="16669" y="6747"/>
                  <a:pt x="16842" y="6747"/>
                </a:cubicBezTo>
              </a:path>
              <a:path w="7144" h="2656">
                <a:moveTo>
                  <a:pt x="16991" y="6722"/>
                </a:moveTo>
                <a:cubicBezTo>
                  <a:pt x="17107" y="6689"/>
                  <a:pt x="17188" y="6672"/>
                  <a:pt x="17314" y="6672"/>
                </a:cubicBezTo>
              </a:path>
              <a:path w="7144" h="2656">
                <a:moveTo>
                  <a:pt x="16966" y="6871"/>
                </a:moveTo>
                <a:cubicBezTo>
                  <a:pt x="17116" y="6871"/>
                  <a:pt x="17242" y="6856"/>
                  <a:pt x="17388" y="6821"/>
                </a:cubicBezTo>
              </a:path>
              <a:path w="7144" h="2656">
                <a:moveTo>
                  <a:pt x="17636" y="6524"/>
                </a:moveTo>
                <a:cubicBezTo>
                  <a:pt x="17636" y="6647"/>
                  <a:pt x="17640" y="6751"/>
                  <a:pt x="17661" y="6871"/>
                </a:cubicBezTo>
                <a:cubicBezTo>
                  <a:pt x="17674" y="6795"/>
                  <a:pt x="17712" y="6661"/>
                  <a:pt x="17810" y="6648"/>
                </a:cubicBezTo>
                <a:cubicBezTo>
                  <a:pt x="17905" y="6671"/>
                  <a:pt x="17936" y="6676"/>
                  <a:pt x="17959" y="6747"/>
                </a:cubicBezTo>
                <a:cubicBezTo>
                  <a:pt x="17902" y="6929"/>
                  <a:pt x="17825" y="6937"/>
                  <a:pt x="17636" y="6945"/>
                </a:cubicBezTo>
                <a:cubicBezTo>
                  <a:pt x="17585" y="6945"/>
                  <a:pt x="17583" y="6920"/>
                  <a:pt x="17636" y="6846"/>
                </a:cubicBezTo>
              </a:path>
              <a:path w="7144" h="2656">
                <a:moveTo>
                  <a:pt x="18083" y="6548"/>
                </a:moveTo>
                <a:cubicBezTo>
                  <a:pt x="18144" y="6658"/>
                  <a:pt x="18172" y="6796"/>
                  <a:pt x="18207" y="6921"/>
                </a:cubicBezTo>
                <a:cubicBezTo>
                  <a:pt x="18223" y="6805"/>
                  <a:pt x="18242" y="6763"/>
                  <a:pt x="18331" y="6697"/>
                </a:cubicBezTo>
                <a:cubicBezTo>
                  <a:pt x="18419" y="6764"/>
                  <a:pt x="18476" y="6848"/>
                  <a:pt x="18455" y="6970"/>
                </a:cubicBezTo>
                <a:cubicBezTo>
                  <a:pt x="18435" y="7011"/>
                  <a:pt x="18437" y="7027"/>
                  <a:pt x="18405" y="7020"/>
                </a:cubicBezTo>
              </a:path>
              <a:path w="7144" h="2656">
                <a:moveTo>
                  <a:pt x="17487" y="7094"/>
                </a:moveTo>
                <a:cubicBezTo>
                  <a:pt x="17687" y="7094"/>
                  <a:pt x="17883" y="7056"/>
                  <a:pt x="18083" y="7069"/>
                </a:cubicBezTo>
                <a:cubicBezTo>
                  <a:pt x="18143" y="7073"/>
                  <a:pt x="18277" y="7090"/>
                  <a:pt x="18306" y="7119"/>
                </a:cubicBezTo>
              </a:path>
              <a:path w="7144" h="2656">
                <a:moveTo>
                  <a:pt x="17884" y="7243"/>
                </a:moveTo>
                <a:cubicBezTo>
                  <a:pt x="17974" y="7216"/>
                  <a:pt x="18015" y="7221"/>
                  <a:pt x="18107" y="7243"/>
                </a:cubicBezTo>
                <a:cubicBezTo>
                  <a:pt x="18107" y="7372"/>
                  <a:pt x="18109" y="7458"/>
                  <a:pt x="17959" y="7491"/>
                </a:cubicBezTo>
                <a:cubicBezTo>
                  <a:pt x="17934" y="7491"/>
                  <a:pt x="17909" y="7491"/>
                  <a:pt x="17884" y="7491"/>
                </a:cubicBezTo>
                <a:cubicBezTo>
                  <a:pt x="17871" y="7452"/>
                  <a:pt x="17982" y="7423"/>
                  <a:pt x="18058" y="7441"/>
                </a:cubicBezTo>
                <a:cubicBezTo>
                  <a:pt x="18189" y="7472"/>
                  <a:pt x="18028" y="7620"/>
                  <a:pt x="17983" y="7640"/>
                </a:cubicBezTo>
                <a:cubicBezTo>
                  <a:pt x="17905" y="7675"/>
                  <a:pt x="17869" y="7676"/>
                  <a:pt x="17810" y="7640"/>
                </a:cubicBezTo>
              </a:path>
              <a:path w="7144" h="2656">
                <a:moveTo>
                  <a:pt x="17859" y="7268"/>
                </a:moveTo>
                <a:cubicBezTo>
                  <a:pt x="17732" y="7268"/>
                  <a:pt x="17930" y="7233"/>
                  <a:pt x="17959" y="7243"/>
                </a:cubicBezTo>
                <a:cubicBezTo>
                  <a:pt x="18169" y="7314"/>
                  <a:pt x="17950" y="7570"/>
                  <a:pt x="17859" y="7640"/>
                </a:cubicBezTo>
                <a:cubicBezTo>
                  <a:pt x="17776" y="7704"/>
                  <a:pt x="17718" y="7699"/>
                  <a:pt x="17636" y="7665"/>
                </a:cubicBezTo>
                <a:cubicBezTo>
                  <a:pt x="17699" y="7538"/>
                  <a:pt x="17754" y="7528"/>
                  <a:pt x="17909" y="7516"/>
                </a:cubicBezTo>
                <a:cubicBezTo>
                  <a:pt x="18072" y="7503"/>
                  <a:pt x="18150" y="7540"/>
                  <a:pt x="18281" y="7615"/>
                </a:cubicBezTo>
                <a:cubicBezTo>
                  <a:pt x="18334" y="7645"/>
                  <a:pt x="18390" y="7636"/>
                  <a:pt x="18405" y="7590"/>
                </a:cubicBezTo>
              </a:path>
              <a:path w="7144" h="2656">
                <a:moveTo>
                  <a:pt x="19149" y="8260"/>
                </a:moveTo>
                <a:cubicBezTo>
                  <a:pt x="19176" y="8482"/>
                  <a:pt x="19199" y="8653"/>
                  <a:pt x="19149" y="8880"/>
                </a:cubicBezTo>
                <a:cubicBezTo>
                  <a:pt x="19141" y="8905"/>
                  <a:pt x="19132" y="8929"/>
                  <a:pt x="19124" y="8954"/>
                </a:cubicBezTo>
                <a:cubicBezTo>
                  <a:pt x="19414" y="9005"/>
                  <a:pt x="19700" y="9005"/>
                  <a:pt x="19993" y="9029"/>
                </a:cubicBezTo>
                <a:cubicBezTo>
                  <a:pt x="20364" y="9059"/>
                  <a:pt x="20737" y="9075"/>
                  <a:pt x="21109" y="9079"/>
                </a:cubicBezTo>
                <a:cubicBezTo>
                  <a:pt x="21515" y="9083"/>
                  <a:pt x="21919" y="9042"/>
                  <a:pt x="22324" y="9029"/>
                </a:cubicBezTo>
                <a:cubicBezTo>
                  <a:pt x="22527" y="9022"/>
                  <a:pt x="22719" y="8994"/>
                  <a:pt x="22920" y="8979"/>
                </a:cubicBezTo>
                <a:cubicBezTo>
                  <a:pt x="23040" y="8970"/>
                  <a:pt x="23178" y="9027"/>
                  <a:pt x="23242" y="8905"/>
                </a:cubicBezTo>
                <a:cubicBezTo>
                  <a:pt x="23335" y="8727"/>
                  <a:pt x="23372" y="8455"/>
                  <a:pt x="23416" y="8260"/>
                </a:cubicBezTo>
                <a:cubicBezTo>
                  <a:pt x="23440" y="8155"/>
                  <a:pt x="23457" y="8074"/>
                  <a:pt x="23416" y="7987"/>
                </a:cubicBezTo>
                <a:cubicBezTo>
                  <a:pt x="23387" y="7927"/>
                  <a:pt x="23343" y="7904"/>
                  <a:pt x="23267" y="7888"/>
                </a:cubicBezTo>
                <a:cubicBezTo>
                  <a:pt x="23066" y="7845"/>
                  <a:pt x="22822" y="7900"/>
                  <a:pt x="22622" y="7913"/>
                </a:cubicBezTo>
                <a:cubicBezTo>
                  <a:pt x="22520" y="7920"/>
                  <a:pt x="22425" y="7932"/>
                  <a:pt x="22324" y="7938"/>
                </a:cubicBezTo>
                <a:cubicBezTo>
                  <a:pt x="21956" y="7959"/>
                  <a:pt x="21596" y="7909"/>
                  <a:pt x="21233" y="7888"/>
                </a:cubicBezTo>
                <a:cubicBezTo>
                  <a:pt x="21042" y="7877"/>
                  <a:pt x="20853" y="7848"/>
                  <a:pt x="20662" y="7838"/>
                </a:cubicBezTo>
                <a:cubicBezTo>
                  <a:pt x="20437" y="7826"/>
                  <a:pt x="20214" y="7845"/>
                  <a:pt x="19993" y="7863"/>
                </a:cubicBezTo>
                <a:cubicBezTo>
                  <a:pt x="19826" y="7877"/>
                  <a:pt x="19661" y="7886"/>
                  <a:pt x="19496" y="7913"/>
                </a:cubicBezTo>
                <a:cubicBezTo>
                  <a:pt x="19393" y="7930"/>
                  <a:pt x="19289" y="7941"/>
                  <a:pt x="19199" y="7962"/>
                </a:cubicBezTo>
                <a:cubicBezTo>
                  <a:pt x="19149" y="7974"/>
                  <a:pt x="19146" y="7945"/>
                  <a:pt x="19124" y="7987"/>
                </a:cubicBezTo>
                <a:cubicBezTo>
                  <a:pt x="19079" y="8073"/>
                  <a:pt x="19158" y="8203"/>
                  <a:pt x="19174" y="8285"/>
                </a:cubicBezTo>
                <a:cubicBezTo>
                  <a:pt x="19174" y="8293"/>
                  <a:pt x="19174" y="8302"/>
                  <a:pt x="19174" y="83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69120" y="2232000"/>
            <a:ext cx="1081080" cy="608040"/>
          </a:xfrm>
          <a:custGeom>
            <a:avLst/>
            <a:gdLst/>
            <a:ahLst/>
            <a:rect l="l" t="t" r="r" b="b"/>
            <a:pathLst>
              <a:path w="3002" h="1688">
                <a:moveTo>
                  <a:pt x="20216" y="6598"/>
                </a:moveTo>
                <a:cubicBezTo>
                  <a:pt x="20254" y="6763"/>
                  <a:pt x="20233" y="6903"/>
                  <a:pt x="20191" y="7069"/>
                </a:cubicBezTo>
                <a:cubicBezTo>
                  <a:pt x="20191" y="6911"/>
                  <a:pt x="20190" y="6826"/>
                  <a:pt x="20265" y="6672"/>
                </a:cubicBezTo>
                <a:cubicBezTo>
                  <a:pt x="20352" y="6543"/>
                  <a:pt x="20366" y="6504"/>
                  <a:pt x="20464" y="6474"/>
                </a:cubicBezTo>
                <a:cubicBezTo>
                  <a:pt x="20571" y="6610"/>
                  <a:pt x="20659" y="6783"/>
                  <a:pt x="20613" y="6970"/>
                </a:cubicBezTo>
                <a:cubicBezTo>
                  <a:pt x="20573" y="7030"/>
                  <a:pt x="20570" y="7042"/>
                  <a:pt x="20538" y="7069"/>
                </a:cubicBezTo>
              </a:path>
              <a:path w="3002" h="1688">
                <a:moveTo>
                  <a:pt x="20191" y="6896"/>
                </a:moveTo>
                <a:cubicBezTo>
                  <a:pt x="20340" y="6869"/>
                  <a:pt x="20489" y="6845"/>
                  <a:pt x="20638" y="6821"/>
                </a:cubicBezTo>
              </a:path>
              <a:path w="3002" h="1688">
                <a:moveTo>
                  <a:pt x="20960" y="6697"/>
                </a:moveTo>
                <a:cubicBezTo>
                  <a:pt x="21052" y="6697"/>
                  <a:pt x="21079" y="6699"/>
                  <a:pt x="21134" y="6672"/>
                </a:cubicBezTo>
              </a:path>
              <a:path w="3002" h="1688">
                <a:moveTo>
                  <a:pt x="20960" y="6821"/>
                </a:moveTo>
                <a:cubicBezTo>
                  <a:pt x="21103" y="6797"/>
                  <a:pt x="21147" y="6791"/>
                  <a:pt x="21233" y="6747"/>
                </a:cubicBezTo>
              </a:path>
              <a:path w="3002" h="1688">
                <a:moveTo>
                  <a:pt x="21481" y="6424"/>
                </a:moveTo>
                <a:cubicBezTo>
                  <a:pt x="21481" y="6565"/>
                  <a:pt x="21481" y="6705"/>
                  <a:pt x="21481" y="6846"/>
                </a:cubicBezTo>
              </a:path>
              <a:path w="3002" h="1688">
                <a:moveTo>
                  <a:pt x="21754" y="6449"/>
                </a:moveTo>
                <a:cubicBezTo>
                  <a:pt x="21844" y="6426"/>
                  <a:pt x="21868" y="6418"/>
                  <a:pt x="21927" y="6424"/>
                </a:cubicBezTo>
                <a:cubicBezTo>
                  <a:pt x="21963" y="6569"/>
                  <a:pt x="21870" y="6671"/>
                  <a:pt x="21754" y="6772"/>
                </a:cubicBezTo>
                <a:cubicBezTo>
                  <a:pt x="21729" y="6788"/>
                  <a:pt x="21704" y="6805"/>
                  <a:pt x="21679" y="6821"/>
                </a:cubicBezTo>
                <a:cubicBezTo>
                  <a:pt x="21788" y="6844"/>
                  <a:pt x="21915" y="6821"/>
                  <a:pt x="22002" y="6846"/>
                </a:cubicBezTo>
              </a:path>
              <a:path w="3002" h="1688">
                <a:moveTo>
                  <a:pt x="22349" y="6226"/>
                </a:moveTo>
                <a:cubicBezTo>
                  <a:pt x="22245" y="6434"/>
                  <a:pt x="22110" y="6629"/>
                  <a:pt x="22175" y="6871"/>
                </a:cubicBezTo>
                <a:cubicBezTo>
                  <a:pt x="22195" y="6944"/>
                  <a:pt x="22240" y="6958"/>
                  <a:pt x="22299" y="6970"/>
                </a:cubicBezTo>
              </a:path>
              <a:path w="3002" h="1688">
                <a:moveTo>
                  <a:pt x="22572" y="6424"/>
                </a:moveTo>
                <a:cubicBezTo>
                  <a:pt x="22526" y="6334"/>
                  <a:pt x="22681" y="6350"/>
                  <a:pt x="22746" y="6375"/>
                </a:cubicBezTo>
                <a:cubicBezTo>
                  <a:pt x="22854" y="6417"/>
                  <a:pt x="22668" y="6529"/>
                  <a:pt x="22647" y="6548"/>
                </a:cubicBezTo>
                <a:cubicBezTo>
                  <a:pt x="22645" y="6493"/>
                  <a:pt x="22768" y="6546"/>
                  <a:pt x="22820" y="6598"/>
                </a:cubicBezTo>
                <a:cubicBezTo>
                  <a:pt x="22757" y="6707"/>
                  <a:pt x="22540" y="6888"/>
                  <a:pt x="22399" y="6747"/>
                </a:cubicBezTo>
                <a:cubicBezTo>
                  <a:pt x="22407" y="6722"/>
                  <a:pt x="22415" y="6697"/>
                  <a:pt x="22423" y="6672"/>
                </a:cubicBezTo>
              </a:path>
              <a:path w="3002" h="1688">
                <a:moveTo>
                  <a:pt x="22944" y="6201"/>
                </a:moveTo>
                <a:cubicBezTo>
                  <a:pt x="23087" y="6344"/>
                  <a:pt x="23280" y="6566"/>
                  <a:pt x="23168" y="6796"/>
                </a:cubicBezTo>
                <a:cubicBezTo>
                  <a:pt x="23096" y="6944"/>
                  <a:pt x="22954" y="6972"/>
                  <a:pt x="22820" y="6995"/>
                </a:cubicBezTo>
              </a:path>
              <a:path w="3002" h="1688">
                <a:moveTo>
                  <a:pt x="21282" y="7069"/>
                </a:moveTo>
                <a:cubicBezTo>
                  <a:pt x="21521" y="7034"/>
                  <a:pt x="21781" y="7045"/>
                  <a:pt x="22027" y="7045"/>
                </a:cubicBezTo>
                <a:cubicBezTo>
                  <a:pt x="22392" y="7045"/>
                  <a:pt x="22753" y="7069"/>
                  <a:pt x="23118" y="7069"/>
                </a:cubicBezTo>
                <a:cubicBezTo>
                  <a:pt x="23143" y="7069"/>
                  <a:pt x="23151" y="7069"/>
                  <a:pt x="23168" y="7069"/>
                </a:cubicBezTo>
              </a:path>
              <a:path w="3002" h="1688">
                <a:moveTo>
                  <a:pt x="22126" y="7293"/>
                </a:moveTo>
                <a:cubicBezTo>
                  <a:pt x="22177" y="7208"/>
                  <a:pt x="22249" y="7199"/>
                  <a:pt x="22349" y="7193"/>
                </a:cubicBezTo>
                <a:cubicBezTo>
                  <a:pt x="22377" y="7193"/>
                  <a:pt x="22388" y="7195"/>
                  <a:pt x="22399" y="7218"/>
                </a:cubicBezTo>
                <a:cubicBezTo>
                  <a:pt x="22384" y="7394"/>
                  <a:pt x="22292" y="7433"/>
                  <a:pt x="22151" y="7541"/>
                </a:cubicBezTo>
                <a:cubicBezTo>
                  <a:pt x="22035" y="7630"/>
                  <a:pt x="21958" y="7745"/>
                  <a:pt x="21853" y="7838"/>
                </a:cubicBezTo>
                <a:cubicBezTo>
                  <a:pt x="21836" y="7846"/>
                  <a:pt x="21820" y="7855"/>
                  <a:pt x="21803" y="7863"/>
                </a:cubicBezTo>
                <a:cubicBezTo>
                  <a:pt x="21803" y="7887"/>
                  <a:pt x="21868" y="7808"/>
                  <a:pt x="21927" y="7764"/>
                </a:cubicBezTo>
                <a:cubicBezTo>
                  <a:pt x="22046" y="7674"/>
                  <a:pt x="22055" y="7637"/>
                  <a:pt x="22175" y="7714"/>
                </a:cubicBezTo>
                <a:cubicBezTo>
                  <a:pt x="22292" y="7789"/>
                  <a:pt x="22335" y="7770"/>
                  <a:pt x="22448" y="76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48200" y="2884320"/>
            <a:ext cx="312840" cy="23184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6371" y="8285"/>
                </a:moveTo>
                <a:cubicBezTo>
                  <a:pt x="16328" y="8414"/>
                  <a:pt x="16286" y="8513"/>
                  <a:pt x="16272" y="8657"/>
                </a:cubicBezTo>
                <a:cubicBezTo>
                  <a:pt x="16196" y="8632"/>
                  <a:pt x="16337" y="8354"/>
                  <a:pt x="16346" y="8334"/>
                </a:cubicBezTo>
                <a:cubicBezTo>
                  <a:pt x="16396" y="8218"/>
                  <a:pt x="16467" y="8109"/>
                  <a:pt x="16545" y="8012"/>
                </a:cubicBezTo>
                <a:cubicBezTo>
                  <a:pt x="16652" y="8144"/>
                  <a:pt x="16715" y="8256"/>
                  <a:pt x="16694" y="8434"/>
                </a:cubicBezTo>
                <a:cubicBezTo>
                  <a:pt x="16687" y="8494"/>
                  <a:pt x="16679" y="8521"/>
                  <a:pt x="16644" y="8533"/>
                </a:cubicBezTo>
              </a:path>
              <a:path w="869" h="646">
                <a:moveTo>
                  <a:pt x="16346" y="8409"/>
                </a:moveTo>
                <a:cubicBezTo>
                  <a:pt x="16460" y="8352"/>
                  <a:pt x="16577" y="8318"/>
                  <a:pt x="16694" y="8260"/>
                </a:cubicBezTo>
              </a:path>
              <a:path w="869" h="646">
                <a:moveTo>
                  <a:pt x="16892" y="8260"/>
                </a:moveTo>
                <a:cubicBezTo>
                  <a:pt x="16973" y="8252"/>
                  <a:pt x="17056" y="8211"/>
                  <a:pt x="17115" y="8235"/>
                </a:cubicBezTo>
              </a:path>
              <a:path w="869" h="646">
                <a:moveTo>
                  <a:pt x="16892" y="8409"/>
                </a:moveTo>
                <a:cubicBezTo>
                  <a:pt x="16966" y="8390"/>
                  <a:pt x="17040" y="8370"/>
                  <a:pt x="17115" y="835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13320" y="2847960"/>
            <a:ext cx="366840" cy="430200"/>
          </a:xfrm>
          <a:custGeom>
            <a:avLst/>
            <a:gdLst/>
            <a:ahLst/>
            <a:rect l="l" t="t" r="r" b="b"/>
            <a:pathLst>
              <a:path w="1018" h="1191">
                <a:moveTo>
                  <a:pt x="17661" y="7962"/>
                </a:moveTo>
                <a:cubicBezTo>
                  <a:pt x="17687" y="8041"/>
                  <a:pt x="17817" y="7923"/>
                  <a:pt x="17884" y="7938"/>
                </a:cubicBezTo>
                <a:cubicBezTo>
                  <a:pt x="17901" y="7954"/>
                  <a:pt x="17917" y="7971"/>
                  <a:pt x="17934" y="7987"/>
                </a:cubicBezTo>
                <a:cubicBezTo>
                  <a:pt x="17895" y="8095"/>
                  <a:pt x="17881" y="8090"/>
                  <a:pt x="17760" y="8136"/>
                </a:cubicBezTo>
                <a:cubicBezTo>
                  <a:pt x="17828" y="8144"/>
                  <a:pt x="18061" y="8169"/>
                  <a:pt x="17934" y="8310"/>
                </a:cubicBezTo>
                <a:cubicBezTo>
                  <a:pt x="17842" y="8412"/>
                  <a:pt x="17584" y="8450"/>
                  <a:pt x="17562" y="8359"/>
                </a:cubicBezTo>
              </a:path>
              <a:path w="1018" h="1191">
                <a:moveTo>
                  <a:pt x="18281" y="7913"/>
                </a:moveTo>
                <a:cubicBezTo>
                  <a:pt x="18226" y="8030"/>
                  <a:pt x="18122" y="8239"/>
                  <a:pt x="18231" y="8359"/>
                </a:cubicBezTo>
                <a:cubicBezTo>
                  <a:pt x="18369" y="8511"/>
                  <a:pt x="18510" y="8304"/>
                  <a:pt x="18554" y="8210"/>
                </a:cubicBezTo>
                <a:cubicBezTo>
                  <a:pt x="18389" y="8234"/>
                  <a:pt x="18344" y="8256"/>
                  <a:pt x="18281" y="8409"/>
                </a:cubicBezTo>
              </a:path>
              <a:path w="1018" h="1191">
                <a:moveTo>
                  <a:pt x="17661" y="8582"/>
                </a:moveTo>
                <a:cubicBezTo>
                  <a:pt x="17893" y="8547"/>
                  <a:pt x="18123" y="8516"/>
                  <a:pt x="18355" y="8483"/>
                </a:cubicBezTo>
              </a:path>
              <a:path w="1018" h="1191">
                <a:moveTo>
                  <a:pt x="18058" y="8781"/>
                </a:moveTo>
                <a:cubicBezTo>
                  <a:pt x="18201" y="8781"/>
                  <a:pt x="18266" y="8804"/>
                  <a:pt x="18380" y="8880"/>
                </a:cubicBezTo>
                <a:cubicBezTo>
                  <a:pt x="18275" y="9089"/>
                  <a:pt x="18193" y="9103"/>
                  <a:pt x="17959" y="9079"/>
                </a:cubicBezTo>
                <a:cubicBezTo>
                  <a:pt x="17976" y="8955"/>
                  <a:pt x="18119" y="8966"/>
                  <a:pt x="18231" y="8979"/>
                </a:cubicBezTo>
                <a:cubicBezTo>
                  <a:pt x="18350" y="8993"/>
                  <a:pt x="18272" y="9009"/>
                  <a:pt x="18331" y="902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8200" y="2990880"/>
            <a:ext cx="358920" cy="223920"/>
          </a:xfrm>
          <a:custGeom>
            <a:avLst/>
            <a:gdLst/>
            <a:ahLst/>
            <a:rect l="l" t="t" r="r" b="b"/>
            <a:pathLst>
              <a:path w="994" h="621">
                <a:moveTo>
                  <a:pt x="19496" y="8731"/>
                </a:moveTo>
                <a:cubicBezTo>
                  <a:pt x="19496" y="8822"/>
                  <a:pt x="19496" y="8830"/>
                  <a:pt x="19496" y="8880"/>
                </a:cubicBezTo>
                <a:cubicBezTo>
                  <a:pt x="19610" y="8823"/>
                  <a:pt x="19634" y="8588"/>
                  <a:pt x="19695" y="8483"/>
                </a:cubicBezTo>
                <a:cubicBezTo>
                  <a:pt x="19780" y="8377"/>
                  <a:pt x="19793" y="8348"/>
                  <a:pt x="19869" y="8310"/>
                </a:cubicBezTo>
                <a:cubicBezTo>
                  <a:pt x="20020" y="8460"/>
                  <a:pt x="20012" y="8619"/>
                  <a:pt x="20017" y="8830"/>
                </a:cubicBezTo>
                <a:cubicBezTo>
                  <a:pt x="20017" y="8888"/>
                  <a:pt x="20017" y="8897"/>
                  <a:pt x="20017" y="8930"/>
                </a:cubicBezTo>
              </a:path>
              <a:path w="994" h="621">
                <a:moveTo>
                  <a:pt x="19695" y="8682"/>
                </a:moveTo>
                <a:cubicBezTo>
                  <a:pt x="19869" y="8657"/>
                  <a:pt x="19926" y="8649"/>
                  <a:pt x="20042" y="8632"/>
                </a:cubicBezTo>
              </a:path>
              <a:path w="994" h="621">
                <a:moveTo>
                  <a:pt x="20290" y="8558"/>
                </a:moveTo>
                <a:cubicBezTo>
                  <a:pt x="20356" y="8558"/>
                  <a:pt x="20423" y="8558"/>
                  <a:pt x="20489" y="8558"/>
                </a:cubicBezTo>
              </a:path>
              <a:path w="994" h="621">
                <a:moveTo>
                  <a:pt x="20315" y="8731"/>
                </a:moveTo>
                <a:cubicBezTo>
                  <a:pt x="20400" y="8731"/>
                  <a:pt x="20420" y="8737"/>
                  <a:pt x="20464" y="87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18240" y="2963880"/>
            <a:ext cx="179640" cy="206280"/>
          </a:xfrm>
          <a:custGeom>
            <a:avLst/>
            <a:gdLst/>
            <a:ahLst/>
            <a:rect l="l" t="t" r="r" b="b"/>
            <a:pathLst>
              <a:path w="497" h="572">
                <a:moveTo>
                  <a:pt x="20910" y="8310"/>
                </a:moveTo>
                <a:cubicBezTo>
                  <a:pt x="20892" y="8475"/>
                  <a:pt x="20751" y="8903"/>
                  <a:pt x="20886" y="8806"/>
                </a:cubicBezTo>
                <a:cubicBezTo>
                  <a:pt x="20902" y="8781"/>
                  <a:pt x="20919" y="8756"/>
                  <a:pt x="20935" y="8731"/>
                </a:cubicBezTo>
              </a:path>
              <a:path w="497" h="572">
                <a:moveTo>
                  <a:pt x="21357" y="8235"/>
                </a:moveTo>
                <a:cubicBezTo>
                  <a:pt x="21234" y="8260"/>
                  <a:pt x="21193" y="8268"/>
                  <a:pt x="21134" y="8334"/>
                </a:cubicBezTo>
                <a:cubicBezTo>
                  <a:pt x="21161" y="8442"/>
                  <a:pt x="21392" y="8572"/>
                  <a:pt x="21382" y="8657"/>
                </a:cubicBezTo>
                <a:cubicBezTo>
                  <a:pt x="21307" y="8757"/>
                  <a:pt x="21281" y="8790"/>
                  <a:pt x="21183" y="8781"/>
                </a:cubicBezTo>
                <a:cubicBezTo>
                  <a:pt x="21134" y="8557"/>
                  <a:pt x="21228" y="8530"/>
                  <a:pt x="21332" y="8334"/>
                </a:cubicBezTo>
                <a:cubicBezTo>
                  <a:pt x="21332" y="8299"/>
                  <a:pt x="21322" y="8287"/>
                  <a:pt x="21282" y="828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67800" y="2928960"/>
            <a:ext cx="482400" cy="187200"/>
          </a:xfrm>
          <a:custGeom>
            <a:avLst/>
            <a:gdLst/>
            <a:ahLst/>
            <a:rect l="l" t="t" r="r" b="b"/>
            <a:pathLst>
              <a:path w="1340" h="522">
                <a:moveTo>
                  <a:pt x="21853" y="8434"/>
                </a:moveTo>
                <a:cubicBezTo>
                  <a:pt x="21876" y="8508"/>
                  <a:pt x="21907" y="8585"/>
                  <a:pt x="21927" y="8657"/>
                </a:cubicBezTo>
              </a:path>
              <a:path w="1340" h="522">
                <a:moveTo>
                  <a:pt x="21903" y="8235"/>
                </a:moveTo>
                <a:lnTo>
                  <a:pt x="21903" y="8235"/>
                </a:lnTo>
                <a:lnTo>
                  <a:pt x="21903" y="8235"/>
                </a:lnTo>
              </a:path>
              <a:path w="1340" h="522">
                <a:moveTo>
                  <a:pt x="21903" y="8235"/>
                </a:moveTo>
                <a:lnTo>
                  <a:pt x="21903" y="8235"/>
                </a:lnTo>
              </a:path>
              <a:path w="1340" h="522">
                <a:moveTo>
                  <a:pt x="22200" y="8558"/>
                </a:moveTo>
                <a:cubicBezTo>
                  <a:pt x="22200" y="8596"/>
                  <a:pt x="22205" y="8433"/>
                  <a:pt x="22225" y="8384"/>
                </a:cubicBezTo>
                <a:cubicBezTo>
                  <a:pt x="22276" y="8256"/>
                  <a:pt x="22406" y="8267"/>
                  <a:pt x="22473" y="8384"/>
                </a:cubicBezTo>
                <a:cubicBezTo>
                  <a:pt x="22511" y="8450"/>
                  <a:pt x="22498" y="8536"/>
                  <a:pt x="22498" y="8607"/>
                </a:cubicBezTo>
              </a:path>
              <a:path w="1340" h="522">
                <a:moveTo>
                  <a:pt x="22771" y="8161"/>
                </a:moveTo>
                <a:cubicBezTo>
                  <a:pt x="22826" y="8137"/>
                  <a:pt x="22878" y="8136"/>
                  <a:pt x="22944" y="8136"/>
                </a:cubicBezTo>
                <a:cubicBezTo>
                  <a:pt x="22927" y="8243"/>
                  <a:pt x="22860" y="8299"/>
                  <a:pt x="22796" y="8384"/>
                </a:cubicBezTo>
                <a:cubicBezTo>
                  <a:pt x="22887" y="8384"/>
                  <a:pt x="23115" y="8328"/>
                  <a:pt x="23192" y="8359"/>
                </a:cubicBezTo>
                <a:cubicBezTo>
                  <a:pt x="23192" y="8367"/>
                  <a:pt x="23192" y="8376"/>
                  <a:pt x="23192" y="838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6760" y="3652920"/>
            <a:ext cx="669960" cy="401400"/>
          </a:xfrm>
          <a:custGeom>
            <a:avLst/>
            <a:gdLst/>
            <a:ahLst/>
            <a:rect l="l" t="t" r="r" b="b"/>
            <a:pathLst>
              <a:path w="1862" h="1117">
                <a:moveTo>
                  <a:pt x="17090" y="10319"/>
                </a:moveTo>
                <a:cubicBezTo>
                  <a:pt x="17079" y="10472"/>
                  <a:pt x="17077" y="10683"/>
                  <a:pt x="16991" y="10790"/>
                </a:cubicBezTo>
                <a:cubicBezTo>
                  <a:pt x="17023" y="10583"/>
                  <a:pt x="17078" y="10363"/>
                  <a:pt x="17214" y="10195"/>
                </a:cubicBezTo>
                <a:cubicBezTo>
                  <a:pt x="17239" y="10178"/>
                  <a:pt x="17264" y="10162"/>
                  <a:pt x="17289" y="10145"/>
                </a:cubicBezTo>
                <a:cubicBezTo>
                  <a:pt x="17464" y="10296"/>
                  <a:pt x="17467" y="10451"/>
                  <a:pt x="17413" y="10691"/>
                </a:cubicBezTo>
                <a:cubicBezTo>
                  <a:pt x="17405" y="10707"/>
                  <a:pt x="17396" y="10724"/>
                  <a:pt x="17388" y="10740"/>
                </a:cubicBezTo>
              </a:path>
              <a:path w="1862" h="1117">
                <a:moveTo>
                  <a:pt x="17115" y="10492"/>
                </a:moveTo>
                <a:cubicBezTo>
                  <a:pt x="17265" y="10509"/>
                  <a:pt x="17383" y="10490"/>
                  <a:pt x="17537" y="10468"/>
                </a:cubicBezTo>
              </a:path>
              <a:path w="1862" h="1117">
                <a:moveTo>
                  <a:pt x="17686" y="10368"/>
                </a:moveTo>
                <a:cubicBezTo>
                  <a:pt x="17810" y="10368"/>
                  <a:pt x="17851" y="10368"/>
                  <a:pt x="17934" y="10368"/>
                </a:cubicBezTo>
              </a:path>
              <a:path w="1862" h="1117">
                <a:moveTo>
                  <a:pt x="17661" y="10567"/>
                </a:moveTo>
                <a:cubicBezTo>
                  <a:pt x="17784" y="10598"/>
                  <a:pt x="17841" y="10603"/>
                  <a:pt x="17934" y="10567"/>
                </a:cubicBezTo>
              </a:path>
              <a:path w="1862" h="1117">
                <a:moveTo>
                  <a:pt x="17934" y="10567"/>
                </a:moveTo>
                <a:lnTo>
                  <a:pt x="17934" y="10567"/>
                </a:lnTo>
              </a:path>
              <a:path w="1862" h="1117">
                <a:moveTo>
                  <a:pt x="18182" y="10170"/>
                </a:moveTo>
                <a:cubicBezTo>
                  <a:pt x="18177" y="10329"/>
                  <a:pt x="18165" y="10483"/>
                  <a:pt x="18157" y="10641"/>
                </a:cubicBezTo>
                <a:cubicBezTo>
                  <a:pt x="18157" y="10523"/>
                  <a:pt x="18225" y="10421"/>
                  <a:pt x="18331" y="10368"/>
                </a:cubicBezTo>
                <a:cubicBezTo>
                  <a:pt x="18356" y="10368"/>
                  <a:pt x="18380" y="10368"/>
                  <a:pt x="18405" y="10368"/>
                </a:cubicBezTo>
                <a:cubicBezTo>
                  <a:pt x="18438" y="10459"/>
                  <a:pt x="18455" y="10811"/>
                  <a:pt x="18207" y="10666"/>
                </a:cubicBezTo>
                <a:cubicBezTo>
                  <a:pt x="18190" y="10633"/>
                  <a:pt x="18174" y="10600"/>
                  <a:pt x="18157" y="10567"/>
                </a:cubicBezTo>
              </a:path>
              <a:path w="1862" h="1117">
                <a:moveTo>
                  <a:pt x="18604" y="10195"/>
                </a:moveTo>
                <a:cubicBezTo>
                  <a:pt x="18623" y="10338"/>
                  <a:pt x="18626" y="10449"/>
                  <a:pt x="18604" y="10592"/>
                </a:cubicBezTo>
                <a:cubicBezTo>
                  <a:pt x="18610" y="10539"/>
                  <a:pt x="18637" y="10273"/>
                  <a:pt x="18752" y="10294"/>
                </a:cubicBezTo>
                <a:cubicBezTo>
                  <a:pt x="18911" y="10324"/>
                  <a:pt x="18836" y="10557"/>
                  <a:pt x="18802" y="10641"/>
                </a:cubicBezTo>
              </a:path>
              <a:path w="1862" h="1117">
                <a:moveTo>
                  <a:pt x="18207" y="10765"/>
                </a:moveTo>
                <a:cubicBezTo>
                  <a:pt x="18383" y="10760"/>
                  <a:pt x="18553" y="10750"/>
                  <a:pt x="18728" y="10740"/>
                </a:cubicBezTo>
              </a:path>
              <a:path w="1862" h="1117">
                <a:moveTo>
                  <a:pt x="18355" y="10914"/>
                </a:moveTo>
                <a:cubicBezTo>
                  <a:pt x="18439" y="10914"/>
                  <a:pt x="18509" y="10909"/>
                  <a:pt x="18579" y="10939"/>
                </a:cubicBezTo>
                <a:cubicBezTo>
                  <a:pt x="18502" y="11073"/>
                  <a:pt x="18366" y="11113"/>
                  <a:pt x="18256" y="11212"/>
                </a:cubicBezTo>
                <a:cubicBezTo>
                  <a:pt x="18248" y="11228"/>
                  <a:pt x="18239" y="11245"/>
                  <a:pt x="18231" y="11261"/>
                </a:cubicBezTo>
                <a:cubicBezTo>
                  <a:pt x="18382" y="11261"/>
                  <a:pt x="18507" y="11226"/>
                  <a:pt x="18653" y="11212"/>
                </a:cubicBezTo>
                <a:cubicBezTo>
                  <a:pt x="18661" y="11212"/>
                  <a:pt x="18670" y="11212"/>
                  <a:pt x="18678" y="112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6120" y="3562200"/>
            <a:ext cx="357120" cy="233640"/>
          </a:xfrm>
          <a:custGeom>
            <a:avLst/>
            <a:gdLst/>
            <a:ahLst/>
            <a:rect l="l" t="t" r="r" b="b"/>
            <a:pathLst>
              <a:path w="994" h="646">
                <a:moveTo>
                  <a:pt x="20290" y="10096"/>
                </a:moveTo>
                <a:cubicBezTo>
                  <a:pt x="20356" y="10204"/>
                  <a:pt x="20279" y="10368"/>
                  <a:pt x="20265" y="10492"/>
                </a:cubicBezTo>
                <a:cubicBezTo>
                  <a:pt x="20265" y="10509"/>
                  <a:pt x="20265" y="10525"/>
                  <a:pt x="20265" y="10542"/>
                </a:cubicBezTo>
                <a:cubicBezTo>
                  <a:pt x="20285" y="10325"/>
                  <a:pt x="20359" y="10181"/>
                  <a:pt x="20513" y="10021"/>
                </a:cubicBezTo>
                <a:cubicBezTo>
                  <a:pt x="20611" y="9944"/>
                  <a:pt x="20621" y="9926"/>
                  <a:pt x="20687" y="9897"/>
                </a:cubicBezTo>
                <a:cubicBezTo>
                  <a:pt x="20762" y="10098"/>
                  <a:pt x="20772" y="10256"/>
                  <a:pt x="20712" y="10468"/>
                </a:cubicBezTo>
                <a:cubicBezTo>
                  <a:pt x="20688" y="10553"/>
                  <a:pt x="20698" y="10541"/>
                  <a:pt x="20662" y="10492"/>
                </a:cubicBezTo>
              </a:path>
              <a:path w="994" h="646">
                <a:moveTo>
                  <a:pt x="20290" y="10319"/>
                </a:moveTo>
                <a:cubicBezTo>
                  <a:pt x="20415" y="10312"/>
                  <a:pt x="20536" y="10294"/>
                  <a:pt x="20662" y="10294"/>
                </a:cubicBezTo>
                <a:cubicBezTo>
                  <a:pt x="20670" y="10294"/>
                  <a:pt x="20679" y="10294"/>
                  <a:pt x="20687" y="10294"/>
                </a:cubicBezTo>
              </a:path>
              <a:path w="994" h="646">
                <a:moveTo>
                  <a:pt x="21034" y="10244"/>
                </a:moveTo>
                <a:cubicBezTo>
                  <a:pt x="21124" y="10237"/>
                  <a:pt x="21172" y="10230"/>
                  <a:pt x="21258" y="10244"/>
                </a:cubicBezTo>
              </a:path>
              <a:path w="994" h="646">
                <a:moveTo>
                  <a:pt x="20960" y="10344"/>
                </a:moveTo>
                <a:cubicBezTo>
                  <a:pt x="21048" y="10327"/>
                  <a:pt x="21118" y="10319"/>
                  <a:pt x="21208" y="1031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800" y="3375000"/>
            <a:ext cx="554040" cy="546120"/>
          </a:xfrm>
          <a:custGeom>
            <a:avLst/>
            <a:gdLst/>
            <a:ahLst/>
            <a:rect l="l" t="t" r="r" b="b"/>
            <a:pathLst>
              <a:path w="1539" h="1514">
                <a:moveTo>
                  <a:pt x="21729" y="9823"/>
                </a:moveTo>
                <a:cubicBezTo>
                  <a:pt x="21778" y="9888"/>
                  <a:pt x="21740" y="9980"/>
                  <a:pt x="21704" y="10071"/>
                </a:cubicBezTo>
                <a:cubicBezTo>
                  <a:pt x="21788" y="10057"/>
                  <a:pt x="21866" y="10027"/>
                  <a:pt x="21952" y="10021"/>
                </a:cubicBezTo>
                <a:cubicBezTo>
                  <a:pt x="21960" y="10021"/>
                  <a:pt x="21969" y="10021"/>
                  <a:pt x="21977" y="10021"/>
                </a:cubicBezTo>
              </a:path>
              <a:path w="1539" h="1514">
                <a:moveTo>
                  <a:pt x="22002" y="9823"/>
                </a:moveTo>
                <a:cubicBezTo>
                  <a:pt x="21949" y="9979"/>
                  <a:pt x="21899" y="10153"/>
                  <a:pt x="21878" y="10319"/>
                </a:cubicBezTo>
                <a:cubicBezTo>
                  <a:pt x="21878" y="10344"/>
                  <a:pt x="21878" y="10368"/>
                  <a:pt x="21878" y="10393"/>
                </a:cubicBezTo>
              </a:path>
              <a:path w="1539" h="1514">
                <a:moveTo>
                  <a:pt x="22275" y="9550"/>
                </a:moveTo>
                <a:cubicBezTo>
                  <a:pt x="22189" y="9784"/>
                  <a:pt x="22162" y="9945"/>
                  <a:pt x="22200" y="10195"/>
                </a:cubicBezTo>
                <a:cubicBezTo>
                  <a:pt x="22216" y="10303"/>
                  <a:pt x="22255" y="10332"/>
                  <a:pt x="22275" y="10393"/>
                </a:cubicBezTo>
              </a:path>
              <a:path w="1539" h="1514">
                <a:moveTo>
                  <a:pt x="22448" y="9798"/>
                </a:moveTo>
                <a:cubicBezTo>
                  <a:pt x="22503" y="9784"/>
                  <a:pt x="22499" y="9780"/>
                  <a:pt x="22572" y="9773"/>
                </a:cubicBezTo>
                <a:cubicBezTo>
                  <a:pt x="22550" y="9926"/>
                  <a:pt x="22426" y="9992"/>
                  <a:pt x="22399" y="10120"/>
                </a:cubicBezTo>
                <a:cubicBezTo>
                  <a:pt x="22387" y="10176"/>
                  <a:pt x="22514" y="10120"/>
                  <a:pt x="22572" y="10120"/>
                </a:cubicBezTo>
              </a:path>
              <a:path w="1539" h="1514">
                <a:moveTo>
                  <a:pt x="22721" y="9823"/>
                </a:moveTo>
                <a:cubicBezTo>
                  <a:pt x="22721" y="9923"/>
                  <a:pt x="22691" y="9955"/>
                  <a:pt x="22820" y="9971"/>
                </a:cubicBezTo>
                <a:cubicBezTo>
                  <a:pt x="22898" y="9971"/>
                  <a:pt x="22916" y="9987"/>
                  <a:pt x="22944" y="9947"/>
                </a:cubicBezTo>
              </a:path>
              <a:path w="1539" h="1514">
                <a:moveTo>
                  <a:pt x="22944" y="9748"/>
                </a:moveTo>
                <a:cubicBezTo>
                  <a:pt x="22903" y="9875"/>
                  <a:pt x="22895" y="9987"/>
                  <a:pt x="22895" y="10120"/>
                </a:cubicBezTo>
              </a:path>
              <a:path w="1539" h="1514">
                <a:moveTo>
                  <a:pt x="22944" y="9376"/>
                </a:moveTo>
                <a:cubicBezTo>
                  <a:pt x="23141" y="9612"/>
                  <a:pt x="23328" y="9828"/>
                  <a:pt x="23168" y="10145"/>
                </a:cubicBezTo>
                <a:cubicBezTo>
                  <a:pt x="23061" y="10273"/>
                  <a:pt x="23045" y="10310"/>
                  <a:pt x="22944" y="10344"/>
                </a:cubicBezTo>
              </a:path>
              <a:path w="1539" h="1514">
                <a:moveTo>
                  <a:pt x="21952" y="10468"/>
                </a:moveTo>
                <a:cubicBezTo>
                  <a:pt x="22288" y="10383"/>
                  <a:pt x="22622" y="10338"/>
                  <a:pt x="22969" y="10319"/>
                </a:cubicBezTo>
                <a:cubicBezTo>
                  <a:pt x="23080" y="10319"/>
                  <a:pt x="23103" y="10292"/>
                  <a:pt x="23143" y="10344"/>
                </a:cubicBezTo>
              </a:path>
              <a:path w="1539" h="1514">
                <a:moveTo>
                  <a:pt x="22374" y="10616"/>
                </a:moveTo>
                <a:cubicBezTo>
                  <a:pt x="22483" y="10597"/>
                  <a:pt x="22587" y="10576"/>
                  <a:pt x="22696" y="10567"/>
                </a:cubicBezTo>
                <a:cubicBezTo>
                  <a:pt x="22671" y="10692"/>
                  <a:pt x="22568" y="10724"/>
                  <a:pt x="22473" y="10790"/>
                </a:cubicBezTo>
                <a:cubicBezTo>
                  <a:pt x="22440" y="10815"/>
                  <a:pt x="22407" y="10839"/>
                  <a:pt x="22374" y="10864"/>
                </a:cubicBezTo>
                <a:cubicBezTo>
                  <a:pt x="22489" y="10887"/>
                  <a:pt x="22601" y="10875"/>
                  <a:pt x="22721" y="10840"/>
                </a:cubicBezTo>
                <a:cubicBezTo>
                  <a:pt x="22762" y="10820"/>
                  <a:pt x="22768" y="10811"/>
                  <a:pt x="22796" y="1081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43760" y="4187880"/>
            <a:ext cx="322200" cy="187200"/>
          </a:xfrm>
          <a:custGeom>
            <a:avLst/>
            <a:gdLst/>
            <a:ahLst/>
            <a:rect l="l" t="t" r="r" b="b"/>
            <a:pathLst>
              <a:path w="894" h="522">
                <a:moveTo>
                  <a:pt x="17165" y="11658"/>
                </a:moveTo>
                <a:cubicBezTo>
                  <a:pt x="17165" y="11631"/>
                  <a:pt x="17104" y="11950"/>
                  <a:pt x="17090" y="12005"/>
                </a:cubicBezTo>
                <a:cubicBezTo>
                  <a:pt x="17082" y="12038"/>
                  <a:pt x="17074" y="12072"/>
                  <a:pt x="17066" y="12105"/>
                </a:cubicBezTo>
                <a:cubicBezTo>
                  <a:pt x="17066" y="12259"/>
                  <a:pt x="17160" y="11852"/>
                  <a:pt x="17165" y="11832"/>
                </a:cubicBezTo>
                <a:cubicBezTo>
                  <a:pt x="17193" y="11728"/>
                  <a:pt x="17180" y="11684"/>
                  <a:pt x="17264" y="11633"/>
                </a:cubicBezTo>
                <a:cubicBezTo>
                  <a:pt x="17374" y="11774"/>
                  <a:pt x="17405" y="11875"/>
                  <a:pt x="17413" y="12055"/>
                </a:cubicBezTo>
                <a:cubicBezTo>
                  <a:pt x="17413" y="12063"/>
                  <a:pt x="17413" y="12072"/>
                  <a:pt x="17413" y="12080"/>
                </a:cubicBezTo>
              </a:path>
              <a:path w="894" h="522">
                <a:moveTo>
                  <a:pt x="17115" y="12005"/>
                </a:moveTo>
                <a:cubicBezTo>
                  <a:pt x="17214" y="11972"/>
                  <a:pt x="17314" y="11939"/>
                  <a:pt x="17413" y="11906"/>
                </a:cubicBezTo>
              </a:path>
              <a:path w="894" h="522">
                <a:moveTo>
                  <a:pt x="17735" y="11807"/>
                </a:moveTo>
                <a:cubicBezTo>
                  <a:pt x="17808" y="11783"/>
                  <a:pt x="17832" y="11774"/>
                  <a:pt x="17884" y="11782"/>
                </a:cubicBezTo>
              </a:path>
              <a:path w="894" h="522">
                <a:moveTo>
                  <a:pt x="17686" y="11956"/>
                </a:moveTo>
                <a:cubicBezTo>
                  <a:pt x="17782" y="11978"/>
                  <a:pt x="17859" y="11981"/>
                  <a:pt x="17959" y="1198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16800" y="4116240"/>
            <a:ext cx="268200" cy="376560"/>
          </a:xfrm>
          <a:custGeom>
            <a:avLst/>
            <a:gdLst/>
            <a:ahLst/>
            <a:rect l="l" t="t" r="r" b="b"/>
            <a:pathLst>
              <a:path w="745" h="1043">
                <a:moveTo>
                  <a:pt x="18653" y="11534"/>
                </a:moveTo>
                <a:cubicBezTo>
                  <a:pt x="18653" y="11488"/>
                  <a:pt x="18623" y="11406"/>
                  <a:pt x="18554" y="11435"/>
                </a:cubicBezTo>
                <a:cubicBezTo>
                  <a:pt x="18466" y="11472"/>
                  <a:pt x="18414" y="11556"/>
                  <a:pt x="18380" y="11633"/>
                </a:cubicBezTo>
                <a:cubicBezTo>
                  <a:pt x="18522" y="11633"/>
                  <a:pt x="18571" y="11578"/>
                  <a:pt x="18703" y="11534"/>
                </a:cubicBezTo>
                <a:cubicBezTo>
                  <a:pt x="18672" y="11616"/>
                  <a:pt x="18663" y="11734"/>
                  <a:pt x="18653" y="11832"/>
                </a:cubicBezTo>
              </a:path>
              <a:path w="745" h="1043">
                <a:moveTo>
                  <a:pt x="18901" y="11435"/>
                </a:moveTo>
                <a:cubicBezTo>
                  <a:pt x="18901" y="11526"/>
                  <a:pt x="18901" y="11617"/>
                  <a:pt x="18901" y="11708"/>
                </a:cubicBezTo>
                <a:cubicBezTo>
                  <a:pt x="19002" y="11742"/>
                  <a:pt x="19061" y="11735"/>
                  <a:pt x="19124" y="11633"/>
                </a:cubicBezTo>
                <a:cubicBezTo>
                  <a:pt x="19124" y="11625"/>
                  <a:pt x="19124" y="11617"/>
                  <a:pt x="19124" y="11609"/>
                </a:cubicBezTo>
                <a:cubicBezTo>
                  <a:pt x="19012" y="11646"/>
                  <a:pt x="18993" y="11682"/>
                  <a:pt x="18976" y="11807"/>
                </a:cubicBezTo>
              </a:path>
              <a:path w="745" h="1043">
                <a:moveTo>
                  <a:pt x="18455" y="12005"/>
                </a:moveTo>
                <a:cubicBezTo>
                  <a:pt x="18630" y="11956"/>
                  <a:pt x="18817" y="11917"/>
                  <a:pt x="19000" y="11906"/>
                </a:cubicBezTo>
                <a:cubicBezTo>
                  <a:pt x="19017" y="11906"/>
                  <a:pt x="19033" y="11906"/>
                  <a:pt x="19050" y="11906"/>
                </a:cubicBezTo>
              </a:path>
              <a:path w="745" h="1043">
                <a:moveTo>
                  <a:pt x="18728" y="12154"/>
                </a:moveTo>
                <a:cubicBezTo>
                  <a:pt x="18830" y="12128"/>
                  <a:pt x="18865" y="12119"/>
                  <a:pt x="18926" y="12080"/>
                </a:cubicBezTo>
                <a:cubicBezTo>
                  <a:pt x="19036" y="12189"/>
                  <a:pt x="18887" y="12298"/>
                  <a:pt x="18802" y="12378"/>
                </a:cubicBezTo>
                <a:cubicBezTo>
                  <a:pt x="18727" y="12434"/>
                  <a:pt x="18714" y="12438"/>
                  <a:pt x="18678" y="12477"/>
                </a:cubicBezTo>
                <a:cubicBezTo>
                  <a:pt x="18786" y="12477"/>
                  <a:pt x="18870" y="12422"/>
                  <a:pt x="18976" y="12402"/>
                </a:cubicBezTo>
                <a:cubicBezTo>
                  <a:pt x="19025" y="12402"/>
                  <a:pt x="19042" y="12402"/>
                  <a:pt x="19075" y="1240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59760" y="4224240"/>
            <a:ext cx="411120" cy="196920"/>
          </a:xfrm>
          <a:custGeom>
            <a:avLst/>
            <a:gdLst/>
            <a:ahLst/>
            <a:rect l="l" t="t" r="r" b="b"/>
            <a:pathLst>
              <a:path w="1142" h="546">
                <a:moveTo>
                  <a:pt x="20166" y="12229"/>
                </a:moveTo>
                <a:cubicBezTo>
                  <a:pt x="20209" y="12357"/>
                  <a:pt x="20388" y="12056"/>
                  <a:pt x="20389" y="12055"/>
                </a:cubicBezTo>
                <a:cubicBezTo>
                  <a:pt x="20486" y="11937"/>
                  <a:pt x="20572" y="11830"/>
                  <a:pt x="20687" y="11733"/>
                </a:cubicBezTo>
                <a:cubicBezTo>
                  <a:pt x="20774" y="11841"/>
                  <a:pt x="20742" y="12053"/>
                  <a:pt x="20712" y="12204"/>
                </a:cubicBezTo>
                <a:cubicBezTo>
                  <a:pt x="20704" y="12229"/>
                  <a:pt x="20695" y="12253"/>
                  <a:pt x="20687" y="12278"/>
                </a:cubicBezTo>
              </a:path>
              <a:path w="1142" h="546">
                <a:moveTo>
                  <a:pt x="20563" y="12030"/>
                </a:moveTo>
                <a:cubicBezTo>
                  <a:pt x="20729" y="12006"/>
                  <a:pt x="20779" y="11999"/>
                  <a:pt x="20886" y="11981"/>
                </a:cubicBezTo>
              </a:path>
              <a:path w="1142" h="546">
                <a:moveTo>
                  <a:pt x="21158" y="11881"/>
                </a:moveTo>
                <a:cubicBezTo>
                  <a:pt x="21241" y="11881"/>
                  <a:pt x="21257" y="11881"/>
                  <a:pt x="21307" y="11881"/>
                </a:cubicBezTo>
              </a:path>
              <a:path w="1142" h="546">
                <a:moveTo>
                  <a:pt x="21134" y="12080"/>
                </a:moveTo>
                <a:cubicBezTo>
                  <a:pt x="21225" y="12057"/>
                  <a:pt x="21251" y="12051"/>
                  <a:pt x="21307" y="1203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31080" y="4089240"/>
            <a:ext cx="849240" cy="268560"/>
          </a:xfrm>
          <a:custGeom>
            <a:avLst/>
            <a:gdLst/>
            <a:ahLst/>
            <a:rect l="l" t="t" r="r" b="b"/>
            <a:pathLst>
              <a:path w="2357" h="745">
                <a:moveTo>
                  <a:pt x="21828" y="11609"/>
                </a:moveTo>
                <a:cubicBezTo>
                  <a:pt x="21815" y="11659"/>
                  <a:pt x="21784" y="11712"/>
                  <a:pt x="21754" y="11757"/>
                </a:cubicBezTo>
                <a:cubicBezTo>
                  <a:pt x="21874" y="11778"/>
                  <a:pt x="21993" y="11804"/>
                  <a:pt x="22101" y="11757"/>
                </a:cubicBezTo>
              </a:path>
              <a:path w="2357" h="745">
                <a:moveTo>
                  <a:pt x="22101" y="11435"/>
                </a:moveTo>
                <a:cubicBezTo>
                  <a:pt x="22045" y="11634"/>
                  <a:pt x="21916" y="11861"/>
                  <a:pt x="21878" y="12055"/>
                </a:cubicBezTo>
                <a:cubicBezTo>
                  <a:pt x="21886" y="12055"/>
                  <a:pt x="21895" y="12055"/>
                  <a:pt x="21903" y="12055"/>
                </a:cubicBezTo>
              </a:path>
              <a:path w="2357" h="745">
                <a:moveTo>
                  <a:pt x="22448" y="11609"/>
                </a:moveTo>
                <a:cubicBezTo>
                  <a:pt x="22365" y="11623"/>
                  <a:pt x="22325" y="11641"/>
                  <a:pt x="22250" y="11683"/>
                </a:cubicBezTo>
                <a:cubicBezTo>
                  <a:pt x="22294" y="11792"/>
                  <a:pt x="22432" y="11910"/>
                  <a:pt x="22374" y="12030"/>
                </a:cubicBezTo>
                <a:cubicBezTo>
                  <a:pt x="22328" y="12076"/>
                  <a:pt x="22316" y="12095"/>
                  <a:pt x="22275" y="12055"/>
                </a:cubicBezTo>
                <a:cubicBezTo>
                  <a:pt x="22304" y="11894"/>
                  <a:pt x="22399" y="11822"/>
                  <a:pt x="22473" y="11683"/>
                </a:cubicBezTo>
                <a:cubicBezTo>
                  <a:pt x="22473" y="11675"/>
                  <a:pt x="22473" y="11666"/>
                  <a:pt x="22473" y="11658"/>
                </a:cubicBezTo>
              </a:path>
              <a:path w="2357" h="745">
                <a:moveTo>
                  <a:pt x="22771" y="11782"/>
                </a:moveTo>
                <a:cubicBezTo>
                  <a:pt x="22838" y="11827"/>
                  <a:pt x="22656" y="11800"/>
                  <a:pt x="22647" y="11956"/>
                </a:cubicBezTo>
                <a:cubicBezTo>
                  <a:pt x="22636" y="12150"/>
                  <a:pt x="22841" y="12072"/>
                  <a:pt x="22920" y="12055"/>
                </a:cubicBezTo>
              </a:path>
              <a:path w="2357" h="745">
                <a:moveTo>
                  <a:pt x="23118" y="11857"/>
                </a:moveTo>
                <a:cubicBezTo>
                  <a:pt x="23107" y="11924"/>
                  <a:pt x="23079" y="11988"/>
                  <a:pt x="23068" y="12055"/>
                </a:cubicBezTo>
                <a:cubicBezTo>
                  <a:pt x="23086" y="11950"/>
                  <a:pt x="23139" y="11854"/>
                  <a:pt x="23242" y="11807"/>
                </a:cubicBezTo>
                <a:cubicBezTo>
                  <a:pt x="23331" y="11767"/>
                  <a:pt x="23346" y="11930"/>
                  <a:pt x="23366" y="11981"/>
                </a:cubicBezTo>
                <a:cubicBezTo>
                  <a:pt x="23366" y="11914"/>
                  <a:pt x="23402" y="11782"/>
                  <a:pt x="23490" y="11782"/>
                </a:cubicBezTo>
                <a:cubicBezTo>
                  <a:pt x="23612" y="11782"/>
                  <a:pt x="23631" y="11995"/>
                  <a:pt x="23614" y="12055"/>
                </a:cubicBezTo>
              </a:path>
              <a:path w="2357" h="745">
                <a:moveTo>
                  <a:pt x="23837" y="11385"/>
                </a:moveTo>
                <a:cubicBezTo>
                  <a:pt x="23892" y="11362"/>
                  <a:pt x="23945" y="11361"/>
                  <a:pt x="24011" y="11361"/>
                </a:cubicBezTo>
                <a:cubicBezTo>
                  <a:pt x="23953" y="11468"/>
                  <a:pt x="23702" y="11546"/>
                  <a:pt x="23788" y="11633"/>
                </a:cubicBezTo>
                <a:cubicBezTo>
                  <a:pt x="23867" y="11712"/>
                  <a:pt x="24018" y="11622"/>
                  <a:pt x="24110" y="116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1776240"/>
            <a:ext cx="2911680" cy="893880"/>
          </a:xfrm>
          <a:custGeom>
            <a:avLst/>
            <a:gdLst/>
            <a:ahLst/>
            <a:rect l="l" t="t" r="r" b="b"/>
            <a:pathLst>
              <a:path w="8088" h="2482">
                <a:moveTo>
                  <a:pt x="2629" y="5358"/>
                </a:moveTo>
                <a:cubicBezTo>
                  <a:pt x="2733" y="5333"/>
                  <a:pt x="2846" y="5310"/>
                  <a:pt x="2952" y="5283"/>
                </a:cubicBezTo>
                <a:cubicBezTo>
                  <a:pt x="3186" y="5224"/>
                  <a:pt x="3405" y="5234"/>
                  <a:pt x="3646" y="5234"/>
                </a:cubicBezTo>
                <a:cubicBezTo>
                  <a:pt x="3949" y="5234"/>
                  <a:pt x="4265" y="5202"/>
                  <a:pt x="4564" y="5159"/>
                </a:cubicBezTo>
                <a:cubicBezTo>
                  <a:pt x="4753" y="5132"/>
                  <a:pt x="4944" y="5114"/>
                  <a:pt x="5135" y="5110"/>
                </a:cubicBezTo>
                <a:cubicBezTo>
                  <a:pt x="5396" y="5105"/>
                  <a:pt x="5668" y="5082"/>
                  <a:pt x="5928" y="5060"/>
                </a:cubicBezTo>
                <a:cubicBezTo>
                  <a:pt x="6202" y="5037"/>
                  <a:pt x="6471" y="5035"/>
                  <a:pt x="6747" y="5035"/>
                </a:cubicBezTo>
                <a:cubicBezTo>
                  <a:pt x="7047" y="5035"/>
                  <a:pt x="7339" y="5085"/>
                  <a:pt x="7640" y="5085"/>
                </a:cubicBezTo>
                <a:cubicBezTo>
                  <a:pt x="7955" y="5085"/>
                  <a:pt x="8268" y="5082"/>
                  <a:pt x="8582" y="5060"/>
                </a:cubicBezTo>
                <a:cubicBezTo>
                  <a:pt x="8855" y="5041"/>
                  <a:pt x="9129" y="4999"/>
                  <a:pt x="9401" y="4986"/>
                </a:cubicBezTo>
                <a:cubicBezTo>
                  <a:pt x="9534" y="4979"/>
                  <a:pt x="9693" y="4932"/>
                  <a:pt x="9823" y="4936"/>
                </a:cubicBezTo>
                <a:cubicBezTo>
                  <a:pt x="9860" y="4937"/>
                  <a:pt x="9836" y="4959"/>
                  <a:pt x="9872" y="4961"/>
                </a:cubicBezTo>
              </a:path>
              <a:path w="8088" h="2482">
                <a:moveTo>
                  <a:pt x="10716" y="7417"/>
                </a:moveTo>
                <a:lnTo>
                  <a:pt x="10716" y="7417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59280" y="4616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99" y="12824"/>
                </a:moveTo>
                <a:lnTo>
                  <a:pt x="15999" y="12824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82800" y="6438960"/>
            <a:ext cx="9360" cy="17280"/>
          </a:xfrm>
          <a:custGeom>
            <a:avLst/>
            <a:gdLst/>
            <a:ahLst/>
            <a:rect l="l" t="t" r="r" b="b"/>
            <a:pathLst>
              <a:path w="25" h="51">
                <a:moveTo>
                  <a:pt x="2729" y="17884"/>
                </a:moveTo>
                <a:cubicBezTo>
                  <a:pt x="2729" y="17912"/>
                  <a:pt x="2731" y="17923"/>
                  <a:pt x="2753" y="179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3040" y="6500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564" y="18058"/>
                </a:moveTo>
                <a:lnTo>
                  <a:pt x="4564" y="18058"/>
                </a:lnTo>
                <a:lnTo>
                  <a:pt x="4564" y="18058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3160" y="5027760"/>
            <a:ext cx="473040" cy="357120"/>
          </a:xfrm>
          <a:custGeom>
            <a:avLst/>
            <a:gdLst/>
            <a:ahLst/>
            <a:rect l="l" t="t" r="r" b="b"/>
            <a:pathLst>
              <a:path w="1315" h="993">
                <a:moveTo>
                  <a:pt x="5482" y="14238"/>
                </a:moveTo>
                <a:cubicBezTo>
                  <a:pt x="5482" y="14217"/>
                  <a:pt x="5511" y="14716"/>
                  <a:pt x="5507" y="14784"/>
                </a:cubicBezTo>
                <a:cubicBezTo>
                  <a:pt x="5499" y="14842"/>
                  <a:pt x="5490" y="14899"/>
                  <a:pt x="5482" y="14957"/>
                </a:cubicBezTo>
                <a:cubicBezTo>
                  <a:pt x="5482" y="14702"/>
                  <a:pt x="5489" y="14436"/>
                  <a:pt x="5556" y="14188"/>
                </a:cubicBezTo>
                <a:cubicBezTo>
                  <a:pt x="5621" y="14039"/>
                  <a:pt x="5623" y="13993"/>
                  <a:pt x="5730" y="13965"/>
                </a:cubicBezTo>
                <a:cubicBezTo>
                  <a:pt x="5914" y="14172"/>
                  <a:pt x="5997" y="14392"/>
                  <a:pt x="5978" y="14684"/>
                </a:cubicBezTo>
                <a:cubicBezTo>
                  <a:pt x="5970" y="14709"/>
                  <a:pt x="5961" y="14734"/>
                  <a:pt x="5953" y="14759"/>
                </a:cubicBezTo>
              </a:path>
              <a:path w="1315" h="993">
                <a:moveTo>
                  <a:pt x="5556" y="14536"/>
                </a:moveTo>
                <a:cubicBezTo>
                  <a:pt x="5718" y="14468"/>
                  <a:pt x="5885" y="14392"/>
                  <a:pt x="6052" y="14337"/>
                </a:cubicBezTo>
                <a:cubicBezTo>
                  <a:pt x="6110" y="14321"/>
                  <a:pt x="6168" y="14304"/>
                  <a:pt x="6226" y="14288"/>
                </a:cubicBezTo>
              </a:path>
              <a:path w="1315" h="993">
                <a:moveTo>
                  <a:pt x="6449" y="14213"/>
                </a:moveTo>
                <a:cubicBezTo>
                  <a:pt x="6563" y="14178"/>
                  <a:pt x="6643" y="14138"/>
                  <a:pt x="6747" y="14163"/>
                </a:cubicBezTo>
              </a:path>
              <a:path w="1315" h="993">
                <a:moveTo>
                  <a:pt x="6548" y="14412"/>
                </a:moveTo>
                <a:cubicBezTo>
                  <a:pt x="6668" y="14382"/>
                  <a:pt x="6720" y="14364"/>
                  <a:pt x="6796" y="143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5040" y="4991040"/>
            <a:ext cx="447840" cy="573120"/>
          </a:xfrm>
          <a:custGeom>
            <a:avLst/>
            <a:gdLst/>
            <a:ahLst/>
            <a:rect l="l" t="t" r="r" b="b"/>
            <a:pathLst>
              <a:path w="1241" h="1588">
                <a:moveTo>
                  <a:pt x="7516" y="13965"/>
                </a:moveTo>
                <a:cubicBezTo>
                  <a:pt x="7559" y="13951"/>
                  <a:pt x="7542" y="13933"/>
                  <a:pt x="7565" y="14039"/>
                </a:cubicBezTo>
                <a:cubicBezTo>
                  <a:pt x="7595" y="14176"/>
                  <a:pt x="7606" y="14387"/>
                  <a:pt x="7640" y="14511"/>
                </a:cubicBezTo>
                <a:cubicBezTo>
                  <a:pt x="7640" y="14449"/>
                  <a:pt x="7618" y="14147"/>
                  <a:pt x="7764" y="14163"/>
                </a:cubicBezTo>
                <a:cubicBezTo>
                  <a:pt x="8041" y="14194"/>
                  <a:pt x="7906" y="14455"/>
                  <a:pt x="7764" y="14536"/>
                </a:cubicBezTo>
                <a:cubicBezTo>
                  <a:pt x="7566" y="14648"/>
                  <a:pt x="7673" y="14418"/>
                  <a:pt x="7689" y="14337"/>
                </a:cubicBezTo>
              </a:path>
              <a:path w="1241" h="1588">
                <a:moveTo>
                  <a:pt x="8037" y="13866"/>
                </a:moveTo>
                <a:cubicBezTo>
                  <a:pt x="8074" y="14054"/>
                  <a:pt x="8172" y="14241"/>
                  <a:pt x="8210" y="14436"/>
                </a:cubicBezTo>
                <a:cubicBezTo>
                  <a:pt x="8210" y="14461"/>
                  <a:pt x="8210" y="14486"/>
                  <a:pt x="8210" y="14511"/>
                </a:cubicBezTo>
                <a:cubicBezTo>
                  <a:pt x="8210" y="14397"/>
                  <a:pt x="8155" y="14182"/>
                  <a:pt x="8285" y="14114"/>
                </a:cubicBezTo>
                <a:cubicBezTo>
                  <a:pt x="8468" y="14018"/>
                  <a:pt x="8603" y="14276"/>
                  <a:pt x="8607" y="14412"/>
                </a:cubicBezTo>
                <a:cubicBezTo>
                  <a:pt x="8583" y="14483"/>
                  <a:pt x="8576" y="14506"/>
                  <a:pt x="8533" y="14536"/>
                </a:cubicBezTo>
              </a:path>
              <a:path w="1241" h="1588">
                <a:moveTo>
                  <a:pt x="7863" y="14784"/>
                </a:moveTo>
                <a:cubicBezTo>
                  <a:pt x="7944" y="14763"/>
                  <a:pt x="8710" y="14491"/>
                  <a:pt x="8756" y="14585"/>
                </a:cubicBezTo>
                <a:cubicBezTo>
                  <a:pt x="8739" y="14610"/>
                  <a:pt x="8723" y="14635"/>
                  <a:pt x="8706" y="14660"/>
                </a:cubicBezTo>
              </a:path>
              <a:path w="1241" h="1588">
                <a:moveTo>
                  <a:pt x="8111" y="14957"/>
                </a:moveTo>
                <a:cubicBezTo>
                  <a:pt x="8243" y="14914"/>
                  <a:pt x="8345" y="14891"/>
                  <a:pt x="8483" y="14883"/>
                </a:cubicBezTo>
                <a:cubicBezTo>
                  <a:pt x="8424" y="15118"/>
                  <a:pt x="8268" y="15208"/>
                  <a:pt x="8111" y="15379"/>
                </a:cubicBezTo>
                <a:cubicBezTo>
                  <a:pt x="8095" y="15404"/>
                  <a:pt x="8078" y="15428"/>
                  <a:pt x="8062" y="15453"/>
                </a:cubicBezTo>
                <a:cubicBezTo>
                  <a:pt x="8220" y="15404"/>
                  <a:pt x="8360" y="15353"/>
                  <a:pt x="8508" y="1528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05200" y="4983120"/>
            <a:ext cx="420840" cy="588960"/>
          </a:xfrm>
          <a:custGeom>
            <a:avLst/>
            <a:gdLst/>
            <a:ahLst/>
            <a:rect l="l" t="t" r="r" b="b"/>
            <a:pathLst>
              <a:path w="1167" h="1638">
                <a:moveTo>
                  <a:pt x="13915" y="13940"/>
                </a:moveTo>
                <a:cubicBezTo>
                  <a:pt x="13897" y="14030"/>
                  <a:pt x="13877" y="14122"/>
                  <a:pt x="13866" y="14213"/>
                </a:cubicBezTo>
                <a:cubicBezTo>
                  <a:pt x="14024" y="14195"/>
                  <a:pt x="14114" y="14170"/>
                  <a:pt x="14238" y="14064"/>
                </a:cubicBezTo>
              </a:path>
              <a:path w="1167" h="1638">
                <a:moveTo>
                  <a:pt x="14163" y="13841"/>
                </a:moveTo>
                <a:cubicBezTo>
                  <a:pt x="14109" y="14099"/>
                  <a:pt x="14080" y="14354"/>
                  <a:pt x="14039" y="14610"/>
                </a:cubicBezTo>
              </a:path>
              <a:path w="1167" h="1638">
                <a:moveTo>
                  <a:pt x="13072" y="14858"/>
                </a:moveTo>
                <a:cubicBezTo>
                  <a:pt x="13227" y="14791"/>
                  <a:pt x="13517" y="14782"/>
                  <a:pt x="13692" y="14759"/>
                </a:cubicBezTo>
                <a:cubicBezTo>
                  <a:pt x="13830" y="14741"/>
                  <a:pt x="13996" y="14709"/>
                  <a:pt x="14139" y="14709"/>
                </a:cubicBezTo>
                <a:cubicBezTo>
                  <a:pt x="14147" y="14709"/>
                  <a:pt x="14155" y="14709"/>
                  <a:pt x="14163" y="14709"/>
                </a:cubicBezTo>
              </a:path>
              <a:path w="1167" h="1638">
                <a:moveTo>
                  <a:pt x="13519" y="14908"/>
                </a:moveTo>
                <a:cubicBezTo>
                  <a:pt x="13507" y="15078"/>
                  <a:pt x="13455" y="15234"/>
                  <a:pt x="13444" y="15404"/>
                </a:cubicBezTo>
                <a:cubicBezTo>
                  <a:pt x="13444" y="15420"/>
                  <a:pt x="13444" y="15437"/>
                  <a:pt x="13444" y="15453"/>
                </a:cubicBezTo>
                <a:cubicBezTo>
                  <a:pt x="13624" y="15481"/>
                  <a:pt x="13690" y="15429"/>
                  <a:pt x="13816" y="15304"/>
                </a:cubicBezTo>
                <a:cubicBezTo>
                  <a:pt x="13868" y="15253"/>
                  <a:pt x="13886" y="15234"/>
                  <a:pt x="13891" y="15180"/>
                </a:cubicBezTo>
                <a:cubicBezTo>
                  <a:pt x="13787" y="15120"/>
                  <a:pt x="13699" y="15208"/>
                  <a:pt x="13643" y="15304"/>
                </a:cubicBezTo>
                <a:cubicBezTo>
                  <a:pt x="13555" y="15453"/>
                  <a:pt x="13596" y="15393"/>
                  <a:pt x="13618" y="1547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3160" y="5776920"/>
            <a:ext cx="36720" cy="241200"/>
          </a:xfrm>
          <a:custGeom>
            <a:avLst/>
            <a:gdLst/>
            <a:ahLst/>
            <a:rect l="l" t="t" r="r" b="b"/>
            <a:pathLst>
              <a:path w="100" h="670">
                <a:moveTo>
                  <a:pt x="5482" y="16049"/>
                </a:moveTo>
                <a:cubicBezTo>
                  <a:pt x="5503" y="16236"/>
                  <a:pt x="5548" y="16405"/>
                  <a:pt x="5556" y="16594"/>
                </a:cubicBezTo>
                <a:cubicBezTo>
                  <a:pt x="5559" y="16679"/>
                  <a:pt x="5528" y="16728"/>
                  <a:pt x="5581" y="1669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5800" y="5776920"/>
            <a:ext cx="17928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5904" y="16073"/>
                </a:moveTo>
                <a:cubicBezTo>
                  <a:pt x="5904" y="16093"/>
                  <a:pt x="5914" y="16164"/>
                  <a:pt x="5953" y="16123"/>
                </a:cubicBezTo>
                <a:cubicBezTo>
                  <a:pt x="6005" y="16046"/>
                  <a:pt x="6025" y="16022"/>
                  <a:pt x="6102" y="16049"/>
                </a:cubicBezTo>
                <a:cubicBezTo>
                  <a:pt x="6215" y="16265"/>
                  <a:pt x="6244" y="16434"/>
                  <a:pt x="6077" y="16644"/>
                </a:cubicBezTo>
                <a:cubicBezTo>
                  <a:pt x="6014" y="16687"/>
                  <a:pt x="6002" y="16703"/>
                  <a:pt x="5953" y="16694"/>
                </a:cubicBezTo>
                <a:cubicBezTo>
                  <a:pt x="5922" y="16571"/>
                  <a:pt x="5916" y="16479"/>
                  <a:pt x="6077" y="16446"/>
                </a:cubicBezTo>
                <a:cubicBezTo>
                  <a:pt x="6273" y="16406"/>
                  <a:pt x="6306" y="16560"/>
                  <a:pt x="6400" y="16669"/>
                </a:cubicBezTo>
                <a:cubicBezTo>
                  <a:pt x="6400" y="16661"/>
                  <a:pt x="6400" y="16652"/>
                  <a:pt x="6400" y="1664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9200" y="5840280"/>
            <a:ext cx="108000" cy="88920"/>
          </a:xfrm>
          <a:custGeom>
            <a:avLst/>
            <a:gdLst/>
            <a:ahLst/>
            <a:rect l="l" t="t" r="r" b="b"/>
            <a:pathLst>
              <a:path w="299" h="249">
                <a:moveTo>
                  <a:pt x="6722" y="16247"/>
                </a:moveTo>
                <a:cubicBezTo>
                  <a:pt x="6797" y="16247"/>
                  <a:pt x="6870" y="16229"/>
                  <a:pt x="6945" y="16222"/>
                </a:cubicBezTo>
              </a:path>
              <a:path w="299" h="249">
                <a:moveTo>
                  <a:pt x="6821" y="16446"/>
                </a:moveTo>
                <a:cubicBezTo>
                  <a:pt x="6897" y="16461"/>
                  <a:pt x="6944" y="16470"/>
                  <a:pt x="7020" y="1647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32040" y="5759280"/>
            <a:ext cx="384120" cy="21456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7590" y="16049"/>
                </a:moveTo>
                <a:cubicBezTo>
                  <a:pt x="7590" y="15948"/>
                  <a:pt x="7629" y="16196"/>
                  <a:pt x="7640" y="16297"/>
                </a:cubicBezTo>
                <a:cubicBezTo>
                  <a:pt x="7640" y="16430"/>
                  <a:pt x="7636" y="16465"/>
                  <a:pt x="7665" y="16545"/>
                </a:cubicBezTo>
                <a:cubicBezTo>
                  <a:pt x="7636" y="16431"/>
                  <a:pt x="7628" y="16323"/>
                  <a:pt x="7714" y="16222"/>
                </a:cubicBezTo>
                <a:cubicBezTo>
                  <a:pt x="7814" y="16104"/>
                  <a:pt x="7957" y="16206"/>
                  <a:pt x="7987" y="16321"/>
                </a:cubicBezTo>
                <a:cubicBezTo>
                  <a:pt x="8016" y="16432"/>
                  <a:pt x="7917" y="16561"/>
                  <a:pt x="7813" y="16594"/>
                </a:cubicBezTo>
                <a:cubicBezTo>
                  <a:pt x="7747" y="16615"/>
                  <a:pt x="7714" y="16559"/>
                  <a:pt x="7714" y="16594"/>
                </a:cubicBezTo>
              </a:path>
              <a:path w="1068" h="596">
                <a:moveTo>
                  <a:pt x="8260" y="16024"/>
                </a:moveTo>
                <a:cubicBezTo>
                  <a:pt x="8301" y="16010"/>
                  <a:pt x="8302" y="15964"/>
                  <a:pt x="8310" y="16049"/>
                </a:cubicBezTo>
                <a:cubicBezTo>
                  <a:pt x="8320" y="16153"/>
                  <a:pt x="8284" y="16318"/>
                  <a:pt x="8260" y="16421"/>
                </a:cubicBezTo>
                <a:cubicBezTo>
                  <a:pt x="8241" y="16478"/>
                  <a:pt x="8232" y="16485"/>
                  <a:pt x="8235" y="16520"/>
                </a:cubicBezTo>
                <a:cubicBezTo>
                  <a:pt x="8361" y="16549"/>
                  <a:pt x="8446" y="16554"/>
                  <a:pt x="8558" y="16470"/>
                </a:cubicBezTo>
                <a:cubicBezTo>
                  <a:pt x="8624" y="16421"/>
                  <a:pt x="8632" y="16346"/>
                  <a:pt x="8657" y="16272"/>
                </a:cubicBezTo>
                <a:cubicBezTo>
                  <a:pt x="8583" y="16254"/>
                  <a:pt x="8500" y="16243"/>
                  <a:pt x="8434" y="16321"/>
                </a:cubicBezTo>
                <a:cubicBezTo>
                  <a:pt x="8382" y="16382"/>
                  <a:pt x="8370" y="16470"/>
                  <a:pt x="8359" y="1654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7840" y="5724360"/>
            <a:ext cx="384120" cy="276480"/>
          </a:xfrm>
          <a:custGeom>
            <a:avLst/>
            <a:gdLst/>
            <a:ahLst/>
            <a:rect l="l" t="t" r="r" b="b"/>
            <a:pathLst>
              <a:path w="1067" h="770">
                <a:moveTo>
                  <a:pt x="13568" y="15999"/>
                </a:moveTo>
                <a:cubicBezTo>
                  <a:pt x="13521" y="16015"/>
                  <a:pt x="13501" y="16163"/>
                  <a:pt x="13494" y="16222"/>
                </a:cubicBezTo>
                <a:cubicBezTo>
                  <a:pt x="13494" y="16255"/>
                  <a:pt x="13494" y="16288"/>
                  <a:pt x="13494" y="16321"/>
                </a:cubicBezTo>
                <a:cubicBezTo>
                  <a:pt x="13591" y="16305"/>
                  <a:pt x="13847" y="16269"/>
                  <a:pt x="13891" y="16148"/>
                </a:cubicBezTo>
                <a:cubicBezTo>
                  <a:pt x="13891" y="16115"/>
                  <a:pt x="13891" y="16082"/>
                  <a:pt x="13891" y="16049"/>
                </a:cubicBezTo>
              </a:path>
              <a:path w="1067" h="770">
                <a:moveTo>
                  <a:pt x="13816" y="15900"/>
                </a:moveTo>
                <a:cubicBezTo>
                  <a:pt x="13784" y="16112"/>
                  <a:pt x="13795" y="16332"/>
                  <a:pt x="13767" y="16545"/>
                </a:cubicBezTo>
                <a:cubicBezTo>
                  <a:pt x="13748" y="16619"/>
                  <a:pt x="13740" y="16626"/>
                  <a:pt x="13742" y="16669"/>
                </a:cubicBezTo>
              </a:path>
              <a:path w="1067" h="770">
                <a:moveTo>
                  <a:pt x="14312" y="16073"/>
                </a:moveTo>
                <a:cubicBezTo>
                  <a:pt x="14362" y="16073"/>
                  <a:pt x="14411" y="16073"/>
                  <a:pt x="14461" y="16073"/>
                </a:cubicBezTo>
              </a:path>
              <a:path w="1067" h="770">
                <a:moveTo>
                  <a:pt x="14312" y="16247"/>
                </a:moveTo>
                <a:cubicBezTo>
                  <a:pt x="14397" y="16232"/>
                  <a:pt x="14477" y="16202"/>
                  <a:pt x="14560" y="16173"/>
                </a:cubicBezTo>
              </a:path>
              <a:path w="1067" h="770">
                <a:moveTo>
                  <a:pt x="14560" y="16173"/>
                </a:moveTo>
                <a:lnTo>
                  <a:pt x="14560" y="16173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14760" y="5749920"/>
            <a:ext cx="920520" cy="509760"/>
          </a:xfrm>
          <a:custGeom>
            <a:avLst/>
            <a:gdLst/>
            <a:ahLst/>
            <a:rect l="l" t="t" r="r" b="b"/>
            <a:pathLst>
              <a:path w="2556" h="1415">
                <a:moveTo>
                  <a:pt x="7541" y="16768"/>
                </a:moveTo>
                <a:cubicBezTo>
                  <a:pt x="7673" y="16746"/>
                  <a:pt x="7802" y="16710"/>
                  <a:pt x="7938" y="16694"/>
                </a:cubicBezTo>
                <a:cubicBezTo>
                  <a:pt x="8151" y="16669"/>
                  <a:pt x="8347" y="16643"/>
                  <a:pt x="8558" y="16669"/>
                </a:cubicBezTo>
              </a:path>
              <a:path w="2556" h="1415">
                <a:moveTo>
                  <a:pt x="7938" y="16966"/>
                </a:moveTo>
                <a:cubicBezTo>
                  <a:pt x="8012" y="16884"/>
                  <a:pt x="8066" y="16829"/>
                  <a:pt x="8186" y="16818"/>
                </a:cubicBezTo>
                <a:cubicBezTo>
                  <a:pt x="8194" y="16818"/>
                  <a:pt x="8202" y="16818"/>
                  <a:pt x="8210" y="16818"/>
                </a:cubicBezTo>
                <a:cubicBezTo>
                  <a:pt x="8254" y="16962"/>
                  <a:pt x="8213" y="17025"/>
                  <a:pt x="8111" y="17140"/>
                </a:cubicBezTo>
                <a:cubicBezTo>
                  <a:pt x="8039" y="17221"/>
                  <a:pt x="7939" y="17259"/>
                  <a:pt x="7913" y="17363"/>
                </a:cubicBezTo>
                <a:cubicBezTo>
                  <a:pt x="7913" y="17388"/>
                  <a:pt x="7913" y="17396"/>
                  <a:pt x="7913" y="17363"/>
                </a:cubicBezTo>
                <a:cubicBezTo>
                  <a:pt x="7951" y="17317"/>
                  <a:pt x="8029" y="17188"/>
                  <a:pt x="8111" y="17264"/>
                </a:cubicBezTo>
                <a:cubicBezTo>
                  <a:pt x="8184" y="17332"/>
                  <a:pt x="8269" y="17333"/>
                  <a:pt x="8384" y="17289"/>
                </a:cubicBezTo>
                <a:cubicBezTo>
                  <a:pt x="8392" y="17281"/>
                  <a:pt x="8401" y="17272"/>
                  <a:pt x="8409" y="17264"/>
                </a:cubicBezTo>
              </a:path>
              <a:path w="2556" h="1415">
                <a:moveTo>
                  <a:pt x="8905" y="16346"/>
                </a:moveTo>
                <a:cubicBezTo>
                  <a:pt x="8957" y="16359"/>
                  <a:pt x="8995" y="16425"/>
                  <a:pt x="9029" y="16470"/>
                </a:cubicBezTo>
                <a:cubicBezTo>
                  <a:pt x="9061" y="16513"/>
                  <a:pt x="9092" y="16548"/>
                  <a:pt x="9103" y="16594"/>
                </a:cubicBezTo>
                <a:cubicBezTo>
                  <a:pt x="9143" y="16607"/>
                  <a:pt x="9113" y="16606"/>
                  <a:pt x="9153" y="16619"/>
                </a:cubicBezTo>
              </a:path>
              <a:path w="2556" h="1415">
                <a:moveTo>
                  <a:pt x="9153" y="16247"/>
                </a:moveTo>
                <a:lnTo>
                  <a:pt x="9153" y="16247"/>
                </a:lnTo>
              </a:path>
              <a:path w="2556" h="1415">
                <a:moveTo>
                  <a:pt x="9153" y="16346"/>
                </a:moveTo>
                <a:lnTo>
                  <a:pt x="9153" y="16346"/>
                </a:lnTo>
              </a:path>
              <a:path w="2556" h="1415">
                <a:moveTo>
                  <a:pt x="9153" y="16346"/>
                </a:moveTo>
                <a:lnTo>
                  <a:pt x="9153" y="16346"/>
                </a:lnTo>
              </a:path>
              <a:path w="2556" h="1415">
                <a:moveTo>
                  <a:pt x="9128" y="16421"/>
                </a:moveTo>
                <a:cubicBezTo>
                  <a:pt x="9070" y="16489"/>
                  <a:pt x="8969" y="16572"/>
                  <a:pt x="8930" y="16644"/>
                </a:cubicBezTo>
                <a:cubicBezTo>
                  <a:pt x="8930" y="16652"/>
                  <a:pt x="8930" y="16661"/>
                  <a:pt x="8930" y="16669"/>
                </a:cubicBezTo>
              </a:path>
              <a:path w="2556" h="1415">
                <a:moveTo>
                  <a:pt x="9699" y="16073"/>
                </a:moveTo>
                <a:lnTo>
                  <a:pt x="9699" y="16073"/>
                </a:lnTo>
              </a:path>
              <a:path w="2556" h="1415">
                <a:moveTo>
                  <a:pt x="9674" y="16073"/>
                </a:moveTo>
                <a:lnTo>
                  <a:pt x="9674" y="16073"/>
                </a:lnTo>
              </a:path>
              <a:path w="2556" h="1415">
                <a:moveTo>
                  <a:pt x="9674" y="16098"/>
                </a:moveTo>
                <a:lnTo>
                  <a:pt x="9674" y="16098"/>
                </a:lnTo>
              </a:path>
              <a:path w="2556" h="1415">
                <a:moveTo>
                  <a:pt x="9674" y="16073"/>
                </a:moveTo>
                <a:lnTo>
                  <a:pt x="9674" y="16073"/>
                </a:lnTo>
              </a:path>
              <a:path w="2556" h="1415">
                <a:moveTo>
                  <a:pt x="9674" y="16073"/>
                </a:moveTo>
                <a:cubicBezTo>
                  <a:pt x="9686" y="16001"/>
                  <a:pt x="9700" y="16033"/>
                  <a:pt x="9773" y="15999"/>
                </a:cubicBezTo>
                <a:cubicBezTo>
                  <a:pt x="9813" y="15979"/>
                  <a:pt x="9820" y="15970"/>
                  <a:pt x="9847" y="15974"/>
                </a:cubicBezTo>
                <a:cubicBezTo>
                  <a:pt x="9901" y="16099"/>
                  <a:pt x="9860" y="16172"/>
                  <a:pt x="9773" y="16272"/>
                </a:cubicBezTo>
                <a:cubicBezTo>
                  <a:pt x="9725" y="16327"/>
                  <a:pt x="9684" y="16356"/>
                  <a:pt x="9649" y="16421"/>
                </a:cubicBezTo>
                <a:cubicBezTo>
                  <a:pt x="9628" y="16460"/>
                  <a:pt x="9609" y="16482"/>
                  <a:pt x="9599" y="16520"/>
                </a:cubicBezTo>
                <a:cubicBezTo>
                  <a:pt x="9607" y="16488"/>
                  <a:pt x="9656" y="16409"/>
                  <a:pt x="9674" y="16396"/>
                </a:cubicBezTo>
                <a:cubicBezTo>
                  <a:pt x="9682" y="16396"/>
                  <a:pt x="9691" y="16396"/>
                  <a:pt x="9699" y="16396"/>
                </a:cubicBezTo>
                <a:cubicBezTo>
                  <a:pt x="9762" y="16435"/>
                  <a:pt x="9866" y="16516"/>
                  <a:pt x="9947" y="16495"/>
                </a:cubicBezTo>
                <a:cubicBezTo>
                  <a:pt x="9973" y="16489"/>
                  <a:pt x="10164" y="16334"/>
                  <a:pt x="10071" y="1639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59040" y="5732640"/>
            <a:ext cx="866880" cy="563400"/>
          </a:xfrm>
          <a:custGeom>
            <a:avLst/>
            <a:gdLst/>
            <a:ahLst/>
            <a:rect l="l" t="t" r="r" b="b"/>
            <a:pathLst>
              <a:path w="2407" h="1563">
                <a:moveTo>
                  <a:pt x="7689" y="17462"/>
                </a:moveTo>
                <a:cubicBezTo>
                  <a:pt x="7691" y="17464"/>
                  <a:pt x="7751" y="17475"/>
                  <a:pt x="7863" y="17438"/>
                </a:cubicBezTo>
                <a:cubicBezTo>
                  <a:pt x="8160" y="17339"/>
                  <a:pt x="8441" y="17184"/>
                  <a:pt x="8731" y="17066"/>
                </a:cubicBezTo>
                <a:cubicBezTo>
                  <a:pt x="8977" y="16966"/>
                  <a:pt x="9210" y="16851"/>
                  <a:pt x="9451" y="16743"/>
                </a:cubicBezTo>
                <a:cubicBezTo>
                  <a:pt x="9556" y="16696"/>
                  <a:pt x="9704" y="16663"/>
                  <a:pt x="9798" y="16594"/>
                </a:cubicBezTo>
                <a:cubicBezTo>
                  <a:pt x="9871" y="16540"/>
                  <a:pt x="9938" y="16489"/>
                  <a:pt x="10021" y="16446"/>
                </a:cubicBezTo>
                <a:cubicBezTo>
                  <a:pt x="10062" y="16426"/>
                  <a:pt x="10078" y="16428"/>
                  <a:pt x="10071" y="16396"/>
                </a:cubicBezTo>
              </a:path>
              <a:path w="2407" h="1563">
                <a:moveTo>
                  <a:pt x="10046" y="15925"/>
                </a:moveTo>
                <a:cubicBezTo>
                  <a:pt x="9945" y="16075"/>
                  <a:pt x="9777" y="16176"/>
                  <a:pt x="9624" y="16272"/>
                </a:cubicBezTo>
                <a:cubicBezTo>
                  <a:pt x="9367" y="16433"/>
                  <a:pt x="9075" y="16531"/>
                  <a:pt x="8806" y="16669"/>
                </a:cubicBezTo>
                <a:cubicBezTo>
                  <a:pt x="8589" y="16780"/>
                  <a:pt x="8382" y="16912"/>
                  <a:pt x="8161" y="17016"/>
                </a:cubicBezTo>
                <a:cubicBezTo>
                  <a:pt x="8072" y="17058"/>
                  <a:pt x="7960" y="17084"/>
                  <a:pt x="7888" y="17140"/>
                </a:cubicBezTo>
                <a:cubicBezTo>
                  <a:pt x="7875" y="17150"/>
                  <a:pt x="7827" y="17175"/>
                  <a:pt x="7813" y="17190"/>
                </a:cubicBezTo>
                <a:cubicBezTo>
                  <a:pt x="7813" y="17198"/>
                  <a:pt x="7813" y="17206"/>
                  <a:pt x="7813" y="1721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66920" y="5786280"/>
            <a:ext cx="312480" cy="268560"/>
          </a:xfrm>
          <a:custGeom>
            <a:avLst/>
            <a:gdLst/>
            <a:ahLst/>
            <a:rect l="l" t="t" r="r" b="b"/>
            <a:pathLst>
              <a:path w="869" h="746">
                <a:moveTo>
                  <a:pt x="4415" y="16495"/>
                </a:moveTo>
                <a:cubicBezTo>
                  <a:pt x="4495" y="16575"/>
                  <a:pt x="4559" y="16645"/>
                  <a:pt x="4614" y="16743"/>
                </a:cubicBezTo>
              </a:path>
              <a:path w="869" h="746">
                <a:moveTo>
                  <a:pt x="4663" y="16446"/>
                </a:moveTo>
                <a:cubicBezTo>
                  <a:pt x="4584" y="16546"/>
                  <a:pt x="4502" y="16655"/>
                  <a:pt x="4440" y="16768"/>
                </a:cubicBezTo>
                <a:cubicBezTo>
                  <a:pt x="4416" y="16816"/>
                  <a:pt x="4408" y="16835"/>
                  <a:pt x="4415" y="16768"/>
                </a:cubicBezTo>
              </a:path>
              <a:path w="869" h="746">
                <a:moveTo>
                  <a:pt x="3870" y="16098"/>
                </a:moveTo>
                <a:cubicBezTo>
                  <a:pt x="3943" y="16086"/>
                  <a:pt x="4078" y="16042"/>
                  <a:pt x="4093" y="16173"/>
                </a:cubicBezTo>
                <a:cubicBezTo>
                  <a:pt x="4109" y="16313"/>
                  <a:pt x="3968" y="16533"/>
                  <a:pt x="3845" y="16594"/>
                </a:cubicBezTo>
                <a:cubicBezTo>
                  <a:pt x="3828" y="16594"/>
                  <a:pt x="3812" y="16594"/>
                  <a:pt x="3795" y="16594"/>
                </a:cubicBezTo>
                <a:cubicBezTo>
                  <a:pt x="3870" y="16627"/>
                  <a:pt x="3953" y="16619"/>
                  <a:pt x="4043" y="16619"/>
                </a:cubicBezTo>
                <a:cubicBezTo>
                  <a:pt x="4051" y="16619"/>
                  <a:pt x="4060" y="16619"/>
                  <a:pt x="4068" y="1661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68920" y="5000760"/>
            <a:ext cx="142920" cy="258480"/>
          </a:xfrm>
          <a:custGeom>
            <a:avLst/>
            <a:gdLst/>
            <a:ahLst/>
            <a:rect l="l" t="t" r="r" b="b"/>
            <a:pathLst>
              <a:path w="398" h="720">
                <a:moveTo>
                  <a:pt x="13568" y="13915"/>
                </a:moveTo>
                <a:cubicBezTo>
                  <a:pt x="13568" y="13907"/>
                  <a:pt x="13568" y="13899"/>
                  <a:pt x="13568" y="13891"/>
                </a:cubicBezTo>
                <a:cubicBezTo>
                  <a:pt x="13565" y="13905"/>
                  <a:pt x="13496" y="14031"/>
                  <a:pt x="13519" y="13965"/>
                </a:cubicBezTo>
                <a:cubicBezTo>
                  <a:pt x="13600" y="13732"/>
                  <a:pt x="13597" y="14195"/>
                  <a:pt x="13593" y="14213"/>
                </a:cubicBezTo>
                <a:cubicBezTo>
                  <a:pt x="13532" y="14459"/>
                  <a:pt x="13473" y="14525"/>
                  <a:pt x="13271" y="14585"/>
                </a:cubicBezTo>
                <a:cubicBezTo>
                  <a:pt x="13247" y="14455"/>
                  <a:pt x="13288" y="14252"/>
                  <a:pt x="13494" y="14337"/>
                </a:cubicBezTo>
                <a:cubicBezTo>
                  <a:pt x="13606" y="14383"/>
                  <a:pt x="13625" y="14512"/>
                  <a:pt x="13643" y="146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8960" y="5054760"/>
            <a:ext cx="106200" cy="80640"/>
          </a:xfrm>
          <a:custGeom>
            <a:avLst/>
            <a:gdLst/>
            <a:ahLst/>
            <a:rect l="l" t="t" r="r" b="b"/>
            <a:pathLst>
              <a:path w="298" h="225">
                <a:moveTo>
                  <a:pt x="14635" y="14039"/>
                </a:moveTo>
                <a:cubicBezTo>
                  <a:pt x="14706" y="14039"/>
                  <a:pt x="15038" y="13996"/>
                  <a:pt x="14858" y="14064"/>
                </a:cubicBezTo>
              </a:path>
              <a:path w="298" h="225">
                <a:moveTo>
                  <a:pt x="14635" y="14263"/>
                </a:moveTo>
                <a:cubicBezTo>
                  <a:pt x="14742" y="14241"/>
                  <a:pt x="14766" y="14233"/>
                  <a:pt x="14833" y="1423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0800" y="4946760"/>
            <a:ext cx="428400" cy="322200"/>
          </a:xfrm>
          <a:custGeom>
            <a:avLst/>
            <a:gdLst/>
            <a:ahLst/>
            <a:rect l="l" t="t" r="r" b="b"/>
            <a:pathLst>
              <a:path w="1191" h="894">
                <a:moveTo>
                  <a:pt x="15429" y="13791"/>
                </a:moveTo>
                <a:cubicBezTo>
                  <a:pt x="15455" y="13684"/>
                  <a:pt x="15442" y="13808"/>
                  <a:pt x="15429" y="13866"/>
                </a:cubicBezTo>
                <a:cubicBezTo>
                  <a:pt x="15383" y="14071"/>
                  <a:pt x="15352" y="14277"/>
                  <a:pt x="15329" y="14486"/>
                </a:cubicBezTo>
                <a:cubicBezTo>
                  <a:pt x="15350" y="14479"/>
                  <a:pt x="15371" y="14442"/>
                  <a:pt x="15379" y="14412"/>
                </a:cubicBezTo>
                <a:cubicBezTo>
                  <a:pt x="15415" y="14284"/>
                  <a:pt x="15455" y="14201"/>
                  <a:pt x="15528" y="14089"/>
                </a:cubicBezTo>
                <a:cubicBezTo>
                  <a:pt x="15694" y="14144"/>
                  <a:pt x="15771" y="14333"/>
                  <a:pt x="15652" y="14511"/>
                </a:cubicBezTo>
                <a:cubicBezTo>
                  <a:pt x="15583" y="14615"/>
                  <a:pt x="15372" y="14694"/>
                  <a:pt x="15280" y="14585"/>
                </a:cubicBezTo>
                <a:cubicBezTo>
                  <a:pt x="15280" y="14542"/>
                  <a:pt x="15297" y="14529"/>
                  <a:pt x="15354" y="14536"/>
                </a:cubicBezTo>
              </a:path>
              <a:path w="1191" h="894">
                <a:moveTo>
                  <a:pt x="16073" y="13891"/>
                </a:moveTo>
                <a:cubicBezTo>
                  <a:pt x="16073" y="14064"/>
                  <a:pt x="16033" y="14217"/>
                  <a:pt x="15999" y="14387"/>
                </a:cubicBezTo>
                <a:cubicBezTo>
                  <a:pt x="15979" y="14486"/>
                  <a:pt x="15971" y="14501"/>
                  <a:pt x="15974" y="14560"/>
                </a:cubicBezTo>
                <a:cubicBezTo>
                  <a:pt x="16118" y="14626"/>
                  <a:pt x="16287" y="14553"/>
                  <a:pt x="16421" y="14436"/>
                </a:cubicBezTo>
                <a:cubicBezTo>
                  <a:pt x="16463" y="14373"/>
                  <a:pt x="16479" y="14361"/>
                  <a:pt x="16470" y="14312"/>
                </a:cubicBezTo>
                <a:cubicBezTo>
                  <a:pt x="16321" y="14288"/>
                  <a:pt x="16268" y="14338"/>
                  <a:pt x="16197" y="14486"/>
                </a:cubicBezTo>
                <a:cubicBezTo>
                  <a:pt x="16181" y="14536"/>
                  <a:pt x="16164" y="14585"/>
                  <a:pt x="16148" y="146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10120" y="5018040"/>
            <a:ext cx="911160" cy="1206720"/>
          </a:xfrm>
          <a:custGeom>
            <a:avLst/>
            <a:gdLst/>
            <a:ahLst/>
            <a:rect l="l" t="t" r="r" b="b"/>
            <a:pathLst>
              <a:path w="2532" h="3350">
                <a:moveTo>
                  <a:pt x="15180" y="14833"/>
                </a:moveTo>
                <a:cubicBezTo>
                  <a:pt x="15195" y="14789"/>
                  <a:pt x="15251" y="14808"/>
                  <a:pt x="15304" y="14808"/>
                </a:cubicBezTo>
                <a:cubicBezTo>
                  <a:pt x="15407" y="14808"/>
                  <a:pt x="15501" y="14827"/>
                  <a:pt x="15602" y="14833"/>
                </a:cubicBezTo>
                <a:cubicBezTo>
                  <a:pt x="15824" y="14846"/>
                  <a:pt x="16049" y="14808"/>
                  <a:pt x="16272" y="14808"/>
                </a:cubicBezTo>
                <a:cubicBezTo>
                  <a:pt x="16330" y="14808"/>
                  <a:pt x="16388" y="14808"/>
                  <a:pt x="16446" y="14808"/>
                </a:cubicBezTo>
              </a:path>
              <a:path w="2532" h="3350">
                <a:moveTo>
                  <a:pt x="15627" y="14957"/>
                </a:moveTo>
                <a:cubicBezTo>
                  <a:pt x="15654" y="14877"/>
                  <a:pt x="15615" y="14999"/>
                  <a:pt x="15602" y="15032"/>
                </a:cubicBezTo>
                <a:cubicBezTo>
                  <a:pt x="15573" y="15105"/>
                  <a:pt x="15450" y="15374"/>
                  <a:pt x="15577" y="15429"/>
                </a:cubicBezTo>
                <a:cubicBezTo>
                  <a:pt x="15697" y="15481"/>
                  <a:pt x="15877" y="15365"/>
                  <a:pt x="15949" y="15280"/>
                </a:cubicBezTo>
                <a:cubicBezTo>
                  <a:pt x="15999" y="15222"/>
                  <a:pt x="15989" y="15192"/>
                  <a:pt x="15974" y="15131"/>
                </a:cubicBezTo>
                <a:cubicBezTo>
                  <a:pt x="15791" y="15161"/>
                  <a:pt x="15770" y="15255"/>
                  <a:pt x="15677" y="15404"/>
                </a:cubicBezTo>
                <a:cubicBezTo>
                  <a:pt x="15654" y="15427"/>
                  <a:pt x="15643" y="15435"/>
                  <a:pt x="15677" y="15429"/>
                </a:cubicBezTo>
              </a:path>
              <a:path w="2532" h="3350">
                <a:moveTo>
                  <a:pt x="16272" y="13965"/>
                </a:moveTo>
                <a:cubicBezTo>
                  <a:pt x="16211" y="14117"/>
                  <a:pt x="16165" y="14213"/>
                  <a:pt x="16098" y="14362"/>
                </a:cubicBezTo>
                <a:cubicBezTo>
                  <a:pt x="15942" y="14711"/>
                  <a:pt x="15779" y="15053"/>
                  <a:pt x="15627" y="15404"/>
                </a:cubicBezTo>
                <a:cubicBezTo>
                  <a:pt x="15607" y="15444"/>
                  <a:pt x="15598" y="15450"/>
                  <a:pt x="15602" y="15478"/>
                </a:cubicBezTo>
              </a:path>
              <a:path w="2532" h="3350">
                <a:moveTo>
                  <a:pt x="14932" y="15925"/>
                </a:moveTo>
                <a:cubicBezTo>
                  <a:pt x="14875" y="15964"/>
                  <a:pt x="14892" y="16407"/>
                  <a:pt x="14883" y="16495"/>
                </a:cubicBezTo>
                <a:cubicBezTo>
                  <a:pt x="14864" y="16629"/>
                  <a:pt x="14874" y="16651"/>
                  <a:pt x="14833" y="16718"/>
                </a:cubicBezTo>
                <a:cubicBezTo>
                  <a:pt x="14860" y="16611"/>
                  <a:pt x="14929" y="16431"/>
                  <a:pt x="15007" y="16346"/>
                </a:cubicBezTo>
                <a:cubicBezTo>
                  <a:pt x="15040" y="16330"/>
                  <a:pt x="15073" y="16313"/>
                  <a:pt x="15106" y="16297"/>
                </a:cubicBezTo>
                <a:cubicBezTo>
                  <a:pt x="15282" y="16435"/>
                  <a:pt x="15289" y="16561"/>
                  <a:pt x="15156" y="16768"/>
                </a:cubicBezTo>
                <a:cubicBezTo>
                  <a:pt x="15077" y="16891"/>
                  <a:pt x="14926" y="16870"/>
                  <a:pt x="14883" y="16768"/>
                </a:cubicBezTo>
              </a:path>
              <a:path w="2532" h="3350">
                <a:moveTo>
                  <a:pt x="13915" y="16619"/>
                </a:moveTo>
                <a:cubicBezTo>
                  <a:pt x="13931" y="16728"/>
                  <a:pt x="14009" y="16829"/>
                  <a:pt x="14039" y="16942"/>
                </a:cubicBezTo>
                <a:cubicBezTo>
                  <a:pt x="14039" y="16958"/>
                  <a:pt x="14039" y="16975"/>
                  <a:pt x="14039" y="16991"/>
                </a:cubicBezTo>
              </a:path>
              <a:path w="2532" h="3350">
                <a:moveTo>
                  <a:pt x="14139" y="16594"/>
                </a:moveTo>
                <a:cubicBezTo>
                  <a:pt x="14086" y="16806"/>
                  <a:pt x="14077" y="17031"/>
                  <a:pt x="14015" y="17239"/>
                </a:cubicBezTo>
                <a:cubicBezTo>
                  <a:pt x="14007" y="17256"/>
                  <a:pt x="13998" y="17272"/>
                  <a:pt x="13990" y="17289"/>
                </a:cubicBezTo>
              </a:path>
              <a:path w="2532" h="3350">
                <a:moveTo>
                  <a:pt x="14312" y="16743"/>
                </a:moveTo>
                <a:cubicBezTo>
                  <a:pt x="14312" y="16710"/>
                  <a:pt x="14312" y="16677"/>
                  <a:pt x="14312" y="16644"/>
                </a:cubicBezTo>
                <a:cubicBezTo>
                  <a:pt x="14189" y="16675"/>
                  <a:pt x="14139" y="16810"/>
                  <a:pt x="14139" y="16942"/>
                </a:cubicBezTo>
                <a:cubicBezTo>
                  <a:pt x="14139" y="17023"/>
                  <a:pt x="14257" y="16901"/>
                  <a:pt x="14312" y="16842"/>
                </a:cubicBezTo>
              </a:path>
              <a:path w="2532" h="3350">
                <a:moveTo>
                  <a:pt x="14288" y="16371"/>
                </a:moveTo>
                <a:cubicBezTo>
                  <a:pt x="14303" y="16523"/>
                  <a:pt x="14311" y="16693"/>
                  <a:pt x="14337" y="16842"/>
                </a:cubicBezTo>
                <a:cubicBezTo>
                  <a:pt x="14361" y="16890"/>
                  <a:pt x="14369" y="16905"/>
                  <a:pt x="14362" y="1694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0840" y="3963960"/>
            <a:ext cx="1670040" cy="546120"/>
          </a:xfrm>
          <a:custGeom>
            <a:avLst/>
            <a:gdLst/>
            <a:ahLst/>
            <a:rect l="l" t="t" r="r" b="b"/>
            <a:pathLst>
              <a:path w="4640" h="1514">
                <a:moveTo>
                  <a:pt x="20092" y="11485"/>
                </a:moveTo>
                <a:cubicBezTo>
                  <a:pt x="20054" y="11837"/>
                  <a:pt x="19996" y="12180"/>
                  <a:pt x="19918" y="12526"/>
                </a:cubicBezTo>
                <a:cubicBezTo>
                  <a:pt x="20052" y="12518"/>
                  <a:pt x="20181" y="12484"/>
                  <a:pt x="20315" y="12477"/>
                </a:cubicBezTo>
                <a:cubicBezTo>
                  <a:pt x="20761" y="12454"/>
                  <a:pt x="21209" y="12490"/>
                  <a:pt x="21654" y="12502"/>
                </a:cubicBezTo>
                <a:cubicBezTo>
                  <a:pt x="22134" y="12515"/>
                  <a:pt x="22615" y="12500"/>
                  <a:pt x="23093" y="12477"/>
                </a:cubicBezTo>
                <a:cubicBezTo>
                  <a:pt x="23333" y="12465"/>
                  <a:pt x="23573" y="12474"/>
                  <a:pt x="23812" y="12452"/>
                </a:cubicBezTo>
                <a:cubicBezTo>
                  <a:pt x="23973" y="12437"/>
                  <a:pt x="24262" y="12496"/>
                  <a:pt x="24333" y="12353"/>
                </a:cubicBezTo>
                <a:cubicBezTo>
                  <a:pt x="24409" y="12201"/>
                  <a:pt x="24444" y="11925"/>
                  <a:pt x="24482" y="11757"/>
                </a:cubicBezTo>
                <a:cubicBezTo>
                  <a:pt x="24518" y="11598"/>
                  <a:pt x="24491" y="11442"/>
                  <a:pt x="24532" y="11286"/>
                </a:cubicBezTo>
                <a:cubicBezTo>
                  <a:pt x="24540" y="11256"/>
                  <a:pt x="24571" y="11220"/>
                  <a:pt x="24557" y="11187"/>
                </a:cubicBezTo>
                <a:cubicBezTo>
                  <a:pt x="24544" y="11156"/>
                  <a:pt x="24520" y="11160"/>
                  <a:pt x="24482" y="11137"/>
                </a:cubicBezTo>
                <a:cubicBezTo>
                  <a:pt x="24363" y="11065"/>
                  <a:pt x="24239" y="11083"/>
                  <a:pt x="24110" y="11063"/>
                </a:cubicBezTo>
                <a:cubicBezTo>
                  <a:pt x="23962" y="11041"/>
                  <a:pt x="23815" y="11017"/>
                  <a:pt x="23664" y="11013"/>
                </a:cubicBezTo>
                <a:cubicBezTo>
                  <a:pt x="23454" y="11008"/>
                  <a:pt x="23252" y="11025"/>
                  <a:pt x="23044" y="11038"/>
                </a:cubicBezTo>
                <a:cubicBezTo>
                  <a:pt x="22874" y="11049"/>
                  <a:pt x="22716" y="11071"/>
                  <a:pt x="22547" y="11088"/>
                </a:cubicBezTo>
                <a:cubicBezTo>
                  <a:pt x="22409" y="11102"/>
                  <a:pt x="22264" y="11109"/>
                  <a:pt x="22126" y="11112"/>
                </a:cubicBezTo>
                <a:cubicBezTo>
                  <a:pt x="21942" y="11116"/>
                  <a:pt x="21762" y="11127"/>
                  <a:pt x="21580" y="11137"/>
                </a:cubicBezTo>
                <a:cubicBezTo>
                  <a:pt x="21410" y="11147"/>
                  <a:pt x="21228" y="11141"/>
                  <a:pt x="21059" y="11162"/>
                </a:cubicBezTo>
                <a:cubicBezTo>
                  <a:pt x="20918" y="11180"/>
                  <a:pt x="20782" y="11208"/>
                  <a:pt x="20638" y="11212"/>
                </a:cubicBezTo>
                <a:cubicBezTo>
                  <a:pt x="20538" y="11215"/>
                  <a:pt x="20435" y="11208"/>
                  <a:pt x="20340" y="11237"/>
                </a:cubicBezTo>
                <a:cubicBezTo>
                  <a:pt x="20281" y="11255"/>
                  <a:pt x="20259" y="11270"/>
                  <a:pt x="20216" y="11311"/>
                </a:cubicBezTo>
                <a:cubicBezTo>
                  <a:pt x="20167" y="11358"/>
                  <a:pt x="20193" y="11334"/>
                  <a:pt x="20166" y="11385"/>
                </a:cubicBezTo>
                <a:cubicBezTo>
                  <a:pt x="20136" y="11442"/>
                  <a:pt x="20134" y="11473"/>
                  <a:pt x="20117" y="115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mework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olume Worksheet (rectangular and triangular prisms only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 Sans MS"/>
              </a:rPr>
              <a:t>Unit 7: Measuremen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Objective: Determine the volume of a rectangular pris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Vocabul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: amount of space a solid occupies (aka – space inside 3D)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 of a rectangular prism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olume = length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width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heigh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=</a:t>
            </a:r>
            <a:r>
              <a:rPr b="0" i="1" lang="en-U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i="1" lang="en-US" sz="3200" spc="-1" strike="noStrike">
                <a:solidFill>
                  <a:srgbClr val="009900"/>
                </a:solidFill>
                <a:latin typeface="Comic Sans MS"/>
              </a:rPr>
              <a:t>w</a:t>
            </a:r>
            <a:r>
              <a:rPr b="0" i="1" lang="en-US" sz="32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4343400"/>
            <a:ext cx="1447920" cy="152388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5943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104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1.) l=7in w=5in h=9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w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●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 35●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=315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429000" y="4724280"/>
          <a:ext cx="13968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47242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523880" y="304920"/>
            <a:ext cx="64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7800" y="4303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606" y="11956"/>
                </a:moveTo>
                <a:lnTo>
                  <a:pt x="5606" y="11956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4040" y="2071800"/>
            <a:ext cx="1447920" cy="1044360"/>
          </a:xfrm>
          <a:custGeom>
            <a:avLst/>
            <a:gdLst/>
            <a:ahLst/>
            <a:rect l="l" t="t" r="r" b="b"/>
            <a:pathLst>
              <a:path w="4020" h="2903">
                <a:moveTo>
                  <a:pt x="20389" y="7441"/>
                </a:moveTo>
                <a:cubicBezTo>
                  <a:pt x="20502" y="7532"/>
                  <a:pt x="20550" y="7769"/>
                  <a:pt x="20613" y="7913"/>
                </a:cubicBezTo>
                <a:cubicBezTo>
                  <a:pt x="20633" y="7953"/>
                  <a:pt x="20642" y="7959"/>
                  <a:pt x="20638" y="7987"/>
                </a:cubicBezTo>
              </a:path>
              <a:path w="4020" h="2903">
                <a:moveTo>
                  <a:pt x="20638" y="7417"/>
                </a:moveTo>
                <a:cubicBezTo>
                  <a:pt x="20554" y="7605"/>
                  <a:pt x="20449" y="7829"/>
                  <a:pt x="20315" y="7987"/>
                </a:cubicBezTo>
                <a:cubicBezTo>
                  <a:pt x="20301" y="8003"/>
                  <a:pt x="20306" y="7987"/>
                  <a:pt x="20389" y="7962"/>
                </a:cubicBezTo>
              </a:path>
              <a:path w="4020" h="2903">
                <a:moveTo>
                  <a:pt x="22498" y="7417"/>
                </a:moveTo>
                <a:cubicBezTo>
                  <a:pt x="22555" y="7398"/>
                  <a:pt x="22543" y="7328"/>
                  <a:pt x="22523" y="7268"/>
                </a:cubicBezTo>
                <a:cubicBezTo>
                  <a:pt x="22501" y="7224"/>
                  <a:pt x="22498" y="7212"/>
                  <a:pt x="22473" y="7193"/>
                </a:cubicBezTo>
                <a:cubicBezTo>
                  <a:pt x="22296" y="7234"/>
                  <a:pt x="22244" y="7324"/>
                  <a:pt x="22175" y="7491"/>
                </a:cubicBezTo>
                <a:cubicBezTo>
                  <a:pt x="22295" y="7571"/>
                  <a:pt x="22397" y="7536"/>
                  <a:pt x="22473" y="7392"/>
                </a:cubicBezTo>
                <a:cubicBezTo>
                  <a:pt x="22497" y="7347"/>
                  <a:pt x="22498" y="7242"/>
                  <a:pt x="22498" y="7293"/>
                </a:cubicBezTo>
                <a:cubicBezTo>
                  <a:pt x="22444" y="7465"/>
                  <a:pt x="22403" y="7636"/>
                  <a:pt x="22374" y="7813"/>
                </a:cubicBezTo>
                <a:cubicBezTo>
                  <a:pt x="22374" y="7821"/>
                  <a:pt x="22374" y="7830"/>
                  <a:pt x="22374" y="7838"/>
                </a:cubicBezTo>
              </a:path>
              <a:path w="4020" h="2903">
                <a:moveTo>
                  <a:pt x="20935" y="7888"/>
                </a:moveTo>
                <a:cubicBezTo>
                  <a:pt x="21171" y="7911"/>
                  <a:pt x="21410" y="7878"/>
                  <a:pt x="21654" y="7863"/>
                </a:cubicBezTo>
                <a:cubicBezTo>
                  <a:pt x="22094" y="7837"/>
                  <a:pt x="22531" y="7815"/>
                  <a:pt x="22969" y="7764"/>
                </a:cubicBezTo>
                <a:cubicBezTo>
                  <a:pt x="22977" y="7764"/>
                  <a:pt x="22986" y="7764"/>
                  <a:pt x="22994" y="7764"/>
                </a:cubicBezTo>
              </a:path>
              <a:path w="4020" h="2903">
                <a:moveTo>
                  <a:pt x="22572" y="7962"/>
                </a:moveTo>
                <a:cubicBezTo>
                  <a:pt x="22460" y="7985"/>
                  <a:pt x="22342" y="8022"/>
                  <a:pt x="22225" y="8037"/>
                </a:cubicBezTo>
                <a:cubicBezTo>
                  <a:pt x="22104" y="8053"/>
                  <a:pt x="22136" y="8153"/>
                  <a:pt x="22101" y="8260"/>
                </a:cubicBezTo>
                <a:cubicBezTo>
                  <a:pt x="22079" y="8304"/>
                  <a:pt x="22066" y="8315"/>
                  <a:pt x="22101" y="8334"/>
                </a:cubicBezTo>
                <a:cubicBezTo>
                  <a:pt x="22220" y="8276"/>
                  <a:pt x="22351" y="8186"/>
                  <a:pt x="22448" y="8334"/>
                </a:cubicBezTo>
                <a:cubicBezTo>
                  <a:pt x="22608" y="8579"/>
                  <a:pt x="22161" y="8660"/>
                  <a:pt x="22027" y="8632"/>
                </a:cubicBezTo>
                <a:cubicBezTo>
                  <a:pt x="21986" y="8607"/>
                  <a:pt x="21944" y="8583"/>
                  <a:pt x="21903" y="8558"/>
                </a:cubicBezTo>
              </a:path>
              <a:path w="4020" h="2903">
                <a:moveTo>
                  <a:pt x="21530" y="6052"/>
                </a:moveTo>
                <a:cubicBezTo>
                  <a:pt x="21499" y="6117"/>
                  <a:pt x="21479" y="6145"/>
                  <a:pt x="21431" y="6176"/>
                </a:cubicBezTo>
                <a:cubicBezTo>
                  <a:pt x="21528" y="6176"/>
                  <a:pt x="21609" y="6142"/>
                  <a:pt x="21704" y="6127"/>
                </a:cubicBezTo>
                <a:cubicBezTo>
                  <a:pt x="21749" y="6127"/>
                  <a:pt x="21762" y="6130"/>
                  <a:pt x="21779" y="6102"/>
                </a:cubicBezTo>
              </a:path>
              <a:path w="4020" h="2903">
                <a:moveTo>
                  <a:pt x="21779" y="5755"/>
                </a:moveTo>
                <a:cubicBezTo>
                  <a:pt x="21747" y="5966"/>
                  <a:pt x="21725" y="6186"/>
                  <a:pt x="21704" y="6400"/>
                </a:cubicBezTo>
                <a:cubicBezTo>
                  <a:pt x="21704" y="6458"/>
                  <a:pt x="21704" y="6466"/>
                  <a:pt x="21704" y="6499"/>
                </a:cubicBezTo>
              </a:path>
              <a:path w="4020" h="2903">
                <a:moveTo>
                  <a:pt x="20836" y="8161"/>
                </a:moveTo>
                <a:cubicBezTo>
                  <a:pt x="20772" y="8161"/>
                  <a:pt x="20934" y="8092"/>
                  <a:pt x="20960" y="8086"/>
                </a:cubicBezTo>
                <a:cubicBezTo>
                  <a:pt x="21093" y="8057"/>
                  <a:pt x="20954" y="8313"/>
                  <a:pt x="20935" y="8359"/>
                </a:cubicBezTo>
                <a:cubicBezTo>
                  <a:pt x="20927" y="8367"/>
                  <a:pt x="20918" y="8376"/>
                  <a:pt x="20910" y="8384"/>
                </a:cubicBezTo>
                <a:cubicBezTo>
                  <a:pt x="20914" y="8337"/>
                  <a:pt x="21076" y="8377"/>
                  <a:pt x="21059" y="8508"/>
                </a:cubicBezTo>
                <a:cubicBezTo>
                  <a:pt x="21035" y="8690"/>
                  <a:pt x="20797" y="8679"/>
                  <a:pt x="20687" y="8607"/>
                </a:cubicBezTo>
                <a:cubicBezTo>
                  <a:pt x="20687" y="8567"/>
                  <a:pt x="20698" y="8548"/>
                  <a:pt x="20737" y="8533"/>
                </a:cubicBezTo>
              </a:path>
              <a:path w="4020" h="2903">
                <a:moveTo>
                  <a:pt x="21431" y="8086"/>
                </a:moveTo>
                <a:cubicBezTo>
                  <a:pt x="21451" y="8226"/>
                  <a:pt x="21465" y="8367"/>
                  <a:pt x="21481" y="8508"/>
                </a:cubicBezTo>
                <a:cubicBezTo>
                  <a:pt x="21481" y="8533"/>
                  <a:pt x="21481" y="8541"/>
                  <a:pt x="21481" y="8558"/>
                </a:cubicBezTo>
              </a:path>
              <a:path w="4020" h="2903">
                <a:moveTo>
                  <a:pt x="23143" y="8037"/>
                </a:moveTo>
                <a:cubicBezTo>
                  <a:pt x="23165" y="8129"/>
                  <a:pt x="23184" y="8216"/>
                  <a:pt x="23192" y="8310"/>
                </a:cubicBezTo>
              </a:path>
              <a:path w="4020" h="2903">
                <a:moveTo>
                  <a:pt x="23118" y="7913"/>
                </a:moveTo>
                <a:lnTo>
                  <a:pt x="23118" y="7913"/>
                </a:lnTo>
                <a:lnTo>
                  <a:pt x="23118" y="7913"/>
                </a:lnTo>
                <a:lnTo>
                  <a:pt x="23118" y="7913"/>
                </a:lnTo>
              </a:path>
              <a:path w="4020" h="2903">
                <a:moveTo>
                  <a:pt x="23118" y="7913"/>
                </a:moveTo>
                <a:lnTo>
                  <a:pt x="23118" y="7913"/>
                </a:lnTo>
              </a:path>
              <a:path w="4020" h="2903">
                <a:moveTo>
                  <a:pt x="23490" y="8235"/>
                </a:moveTo>
                <a:cubicBezTo>
                  <a:pt x="23512" y="8279"/>
                  <a:pt x="23525" y="8300"/>
                  <a:pt x="23490" y="8260"/>
                </a:cubicBezTo>
                <a:cubicBezTo>
                  <a:pt x="23490" y="8165"/>
                  <a:pt x="23469" y="7981"/>
                  <a:pt x="23614" y="7962"/>
                </a:cubicBezTo>
                <a:cubicBezTo>
                  <a:pt x="23772" y="7942"/>
                  <a:pt x="23881" y="8156"/>
                  <a:pt x="23862" y="8285"/>
                </a:cubicBezTo>
                <a:cubicBezTo>
                  <a:pt x="23854" y="8293"/>
                  <a:pt x="23845" y="8302"/>
                  <a:pt x="23837" y="8310"/>
                </a:cubicBezTo>
              </a:path>
              <a:path w="4020" h="2903">
                <a:moveTo>
                  <a:pt x="24011" y="7640"/>
                </a:moveTo>
                <a:cubicBezTo>
                  <a:pt x="24087" y="7640"/>
                  <a:pt x="24135" y="7587"/>
                  <a:pt x="24209" y="7565"/>
                </a:cubicBezTo>
                <a:cubicBezTo>
                  <a:pt x="24217" y="7565"/>
                  <a:pt x="24226" y="7565"/>
                  <a:pt x="24234" y="7565"/>
                </a:cubicBezTo>
                <a:cubicBezTo>
                  <a:pt x="24214" y="7695"/>
                  <a:pt x="24180" y="7743"/>
                  <a:pt x="24085" y="7838"/>
                </a:cubicBezTo>
                <a:cubicBezTo>
                  <a:pt x="24085" y="7724"/>
                  <a:pt x="24194" y="7771"/>
                  <a:pt x="24259" y="7813"/>
                </a:cubicBezTo>
                <a:cubicBezTo>
                  <a:pt x="24398" y="7903"/>
                  <a:pt x="24231" y="8019"/>
                  <a:pt x="24135" y="8037"/>
                </a:cubicBezTo>
                <a:cubicBezTo>
                  <a:pt x="24077" y="8037"/>
                  <a:pt x="24053" y="8053"/>
                  <a:pt x="24061" y="801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6880" y="2384280"/>
            <a:ext cx="689040" cy="241560"/>
          </a:xfrm>
          <a:custGeom>
            <a:avLst/>
            <a:gdLst/>
            <a:ahLst/>
            <a:rect l="l" t="t" r="r" b="b"/>
            <a:pathLst>
              <a:path w="1911" h="671">
                <a:moveTo>
                  <a:pt x="17909" y="6722"/>
                </a:moveTo>
                <a:cubicBezTo>
                  <a:pt x="18047" y="6736"/>
                  <a:pt x="18165" y="6727"/>
                  <a:pt x="18306" y="6722"/>
                </a:cubicBezTo>
                <a:cubicBezTo>
                  <a:pt x="18322" y="6722"/>
                  <a:pt x="18339" y="6722"/>
                  <a:pt x="18355" y="6722"/>
                </a:cubicBezTo>
                <a:cubicBezTo>
                  <a:pt x="18355" y="6880"/>
                  <a:pt x="18277" y="6962"/>
                  <a:pt x="18207" y="7094"/>
                </a:cubicBezTo>
                <a:cubicBezTo>
                  <a:pt x="18170" y="7164"/>
                  <a:pt x="18099" y="7260"/>
                  <a:pt x="18132" y="7293"/>
                </a:cubicBezTo>
              </a:path>
              <a:path w="1911" h="671">
                <a:moveTo>
                  <a:pt x="18752" y="6772"/>
                </a:moveTo>
                <a:cubicBezTo>
                  <a:pt x="18768" y="6917"/>
                  <a:pt x="18796" y="7064"/>
                  <a:pt x="18876" y="7193"/>
                </a:cubicBezTo>
                <a:cubicBezTo>
                  <a:pt x="18884" y="7201"/>
                  <a:pt x="18893" y="7210"/>
                  <a:pt x="18901" y="7218"/>
                </a:cubicBezTo>
              </a:path>
              <a:path w="1911" h="671">
                <a:moveTo>
                  <a:pt x="18926" y="6747"/>
                </a:moveTo>
                <a:cubicBezTo>
                  <a:pt x="18822" y="6915"/>
                  <a:pt x="18712" y="7077"/>
                  <a:pt x="18604" y="7243"/>
                </a:cubicBezTo>
              </a:path>
              <a:path w="1911" h="671">
                <a:moveTo>
                  <a:pt x="19695" y="6623"/>
                </a:moveTo>
                <a:cubicBezTo>
                  <a:pt x="19619" y="6623"/>
                  <a:pt x="19455" y="6594"/>
                  <a:pt x="19422" y="6648"/>
                </a:cubicBezTo>
                <a:cubicBezTo>
                  <a:pt x="19368" y="6736"/>
                  <a:pt x="19337" y="6826"/>
                  <a:pt x="19298" y="6921"/>
                </a:cubicBezTo>
                <a:cubicBezTo>
                  <a:pt x="19467" y="6921"/>
                  <a:pt x="19626" y="6928"/>
                  <a:pt x="19794" y="6945"/>
                </a:cubicBezTo>
                <a:cubicBezTo>
                  <a:pt x="19784" y="7172"/>
                  <a:pt x="19663" y="7366"/>
                  <a:pt x="19372" y="7293"/>
                </a:cubicBezTo>
                <a:cubicBezTo>
                  <a:pt x="19339" y="7268"/>
                  <a:pt x="19306" y="7243"/>
                  <a:pt x="19273" y="721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48680" y="2446200"/>
            <a:ext cx="144360" cy="81000"/>
          </a:xfrm>
          <a:custGeom>
            <a:avLst/>
            <a:gdLst/>
            <a:ahLst/>
            <a:rect l="l" t="t" r="r" b="b"/>
            <a:pathLst>
              <a:path w="398" h="225">
                <a:moveTo>
                  <a:pt x="20414" y="6821"/>
                </a:moveTo>
                <a:cubicBezTo>
                  <a:pt x="20552" y="6815"/>
                  <a:pt x="20677" y="6807"/>
                  <a:pt x="20811" y="6821"/>
                </a:cubicBezTo>
              </a:path>
              <a:path w="398" h="225">
                <a:moveTo>
                  <a:pt x="20414" y="7020"/>
                </a:moveTo>
                <a:cubicBezTo>
                  <a:pt x="20605" y="7020"/>
                  <a:pt x="20679" y="7018"/>
                  <a:pt x="20811" y="6995"/>
                </a:cubicBezTo>
              </a:path>
              <a:path w="398" h="225">
                <a:moveTo>
                  <a:pt x="20811" y="6995"/>
                </a:moveTo>
                <a:lnTo>
                  <a:pt x="20811" y="699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78800" y="2340000"/>
            <a:ext cx="536400" cy="241200"/>
          </a:xfrm>
          <a:custGeom>
            <a:avLst/>
            <a:gdLst/>
            <a:ahLst/>
            <a:rect l="l" t="t" r="r" b="b"/>
            <a:pathLst>
              <a:path w="1489" h="671">
                <a:moveTo>
                  <a:pt x="21406" y="6598"/>
                </a:moveTo>
                <a:cubicBezTo>
                  <a:pt x="21514" y="6583"/>
                  <a:pt x="21693" y="6503"/>
                  <a:pt x="21754" y="6648"/>
                </a:cubicBezTo>
                <a:cubicBezTo>
                  <a:pt x="21794" y="6744"/>
                  <a:pt x="21605" y="6777"/>
                  <a:pt x="21555" y="6796"/>
                </a:cubicBezTo>
                <a:cubicBezTo>
                  <a:pt x="21745" y="6796"/>
                  <a:pt x="21767" y="6831"/>
                  <a:pt x="21903" y="6945"/>
                </a:cubicBezTo>
                <a:cubicBezTo>
                  <a:pt x="21812" y="7106"/>
                  <a:pt x="21574" y="7284"/>
                  <a:pt x="21357" y="7144"/>
                </a:cubicBezTo>
                <a:cubicBezTo>
                  <a:pt x="21349" y="7111"/>
                  <a:pt x="21340" y="7078"/>
                  <a:pt x="21332" y="7045"/>
                </a:cubicBezTo>
              </a:path>
              <a:path w="1489" h="671">
                <a:moveTo>
                  <a:pt x="22547" y="6524"/>
                </a:moveTo>
                <a:cubicBezTo>
                  <a:pt x="22514" y="6524"/>
                  <a:pt x="22279" y="6483"/>
                  <a:pt x="22250" y="6499"/>
                </a:cubicBezTo>
                <a:cubicBezTo>
                  <a:pt x="22214" y="6520"/>
                  <a:pt x="22213" y="6680"/>
                  <a:pt x="22200" y="6722"/>
                </a:cubicBezTo>
                <a:cubicBezTo>
                  <a:pt x="22334" y="6700"/>
                  <a:pt x="22482" y="6599"/>
                  <a:pt x="22622" y="6623"/>
                </a:cubicBezTo>
                <a:cubicBezTo>
                  <a:pt x="22847" y="6662"/>
                  <a:pt x="22886" y="6936"/>
                  <a:pt x="22671" y="7020"/>
                </a:cubicBezTo>
                <a:cubicBezTo>
                  <a:pt x="22504" y="7044"/>
                  <a:pt x="22452" y="7054"/>
                  <a:pt x="22349" y="699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l= 5in  w=10in  h=5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l=12c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=4cm  w=15c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) h=7yd   w=9yd  h=9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2320" y="144360"/>
            <a:ext cx="757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38240" y="2830680"/>
            <a:ext cx="1347840" cy="474480"/>
          </a:xfrm>
          <a:custGeom>
            <a:avLst/>
            <a:gdLst/>
            <a:ahLst/>
            <a:rect l="l" t="t" r="r" b="b"/>
            <a:pathLst>
              <a:path w="3746" h="1316">
                <a:moveTo>
                  <a:pt x="8136" y="8235"/>
                </a:moveTo>
                <a:lnTo>
                  <a:pt x="8136" y="8235"/>
                </a:lnTo>
              </a:path>
              <a:path w="3746" h="1316">
                <a:moveTo>
                  <a:pt x="5705" y="7962"/>
                </a:moveTo>
                <a:cubicBezTo>
                  <a:pt x="5610" y="7998"/>
                  <a:pt x="5599" y="7934"/>
                  <a:pt x="5531" y="7938"/>
                </a:cubicBezTo>
                <a:cubicBezTo>
                  <a:pt x="5461" y="7942"/>
                  <a:pt x="5415" y="8063"/>
                  <a:pt x="5383" y="8111"/>
                </a:cubicBezTo>
                <a:cubicBezTo>
                  <a:pt x="5428" y="8180"/>
                  <a:pt x="5610" y="8107"/>
                  <a:pt x="5705" y="8186"/>
                </a:cubicBezTo>
                <a:cubicBezTo>
                  <a:pt x="5909" y="8357"/>
                  <a:pt x="5619" y="8491"/>
                  <a:pt x="5482" y="8483"/>
                </a:cubicBezTo>
                <a:cubicBezTo>
                  <a:pt x="5404" y="8457"/>
                  <a:pt x="5381" y="8446"/>
                  <a:pt x="5457" y="8384"/>
                </a:cubicBezTo>
              </a:path>
              <a:path w="3746" h="1316">
                <a:moveTo>
                  <a:pt x="6077" y="8012"/>
                </a:moveTo>
                <a:cubicBezTo>
                  <a:pt x="6156" y="8116"/>
                  <a:pt x="6240" y="8209"/>
                  <a:pt x="6276" y="8334"/>
                </a:cubicBezTo>
              </a:path>
              <a:path w="3746" h="1316">
                <a:moveTo>
                  <a:pt x="6276" y="8037"/>
                </a:moveTo>
                <a:cubicBezTo>
                  <a:pt x="6247" y="8097"/>
                  <a:pt x="6098" y="8455"/>
                  <a:pt x="6028" y="8458"/>
                </a:cubicBezTo>
                <a:cubicBezTo>
                  <a:pt x="6036" y="8442"/>
                  <a:pt x="6044" y="8425"/>
                  <a:pt x="6052" y="8409"/>
                </a:cubicBezTo>
              </a:path>
              <a:path w="3746" h="1316">
                <a:moveTo>
                  <a:pt x="6648" y="8012"/>
                </a:moveTo>
                <a:cubicBezTo>
                  <a:pt x="6648" y="8144"/>
                  <a:pt x="6648" y="8277"/>
                  <a:pt x="6648" y="8409"/>
                </a:cubicBezTo>
              </a:path>
              <a:path w="3746" h="1316">
                <a:moveTo>
                  <a:pt x="7069" y="8037"/>
                </a:moveTo>
                <a:cubicBezTo>
                  <a:pt x="6958" y="8190"/>
                  <a:pt x="6947" y="8248"/>
                  <a:pt x="7069" y="8384"/>
                </a:cubicBezTo>
                <a:cubicBezTo>
                  <a:pt x="7189" y="8340"/>
                  <a:pt x="7492" y="8163"/>
                  <a:pt x="7243" y="8012"/>
                </a:cubicBezTo>
                <a:cubicBezTo>
                  <a:pt x="7100" y="7988"/>
                  <a:pt x="7055" y="7977"/>
                  <a:pt x="6970" y="8037"/>
                </a:cubicBezTo>
              </a:path>
              <a:path w="3746" h="1316">
                <a:moveTo>
                  <a:pt x="6201" y="8731"/>
                </a:moveTo>
                <a:cubicBezTo>
                  <a:pt x="6086" y="8731"/>
                  <a:pt x="6043" y="8703"/>
                  <a:pt x="5978" y="8806"/>
                </a:cubicBezTo>
                <a:cubicBezTo>
                  <a:pt x="5954" y="8854"/>
                  <a:pt x="5945" y="8868"/>
                  <a:pt x="5953" y="8905"/>
                </a:cubicBezTo>
                <a:cubicBezTo>
                  <a:pt x="6026" y="8942"/>
                  <a:pt x="6210" y="8830"/>
                  <a:pt x="6325" y="8905"/>
                </a:cubicBezTo>
                <a:cubicBezTo>
                  <a:pt x="6333" y="8930"/>
                  <a:pt x="6342" y="8954"/>
                  <a:pt x="6350" y="8979"/>
                </a:cubicBezTo>
                <a:cubicBezTo>
                  <a:pt x="6279" y="9075"/>
                  <a:pt x="6079" y="9295"/>
                  <a:pt x="5928" y="9153"/>
                </a:cubicBezTo>
                <a:cubicBezTo>
                  <a:pt x="5928" y="9037"/>
                  <a:pt x="5965" y="8991"/>
                  <a:pt x="6102" y="8979"/>
                </a:cubicBezTo>
              </a:path>
              <a:path w="3746" h="1316">
                <a:moveTo>
                  <a:pt x="6623" y="8756"/>
                </a:moveTo>
                <a:cubicBezTo>
                  <a:pt x="6564" y="8859"/>
                  <a:pt x="6426" y="9073"/>
                  <a:pt x="6648" y="9103"/>
                </a:cubicBezTo>
                <a:cubicBezTo>
                  <a:pt x="6783" y="9121"/>
                  <a:pt x="7081" y="8960"/>
                  <a:pt x="6896" y="8806"/>
                </a:cubicBezTo>
                <a:cubicBezTo>
                  <a:pt x="6813" y="8785"/>
                  <a:pt x="6798" y="8777"/>
                  <a:pt x="6747" y="8781"/>
                </a:cubicBezTo>
              </a:path>
              <a:path w="3746" h="1316">
                <a:moveTo>
                  <a:pt x="7739" y="8086"/>
                </a:moveTo>
                <a:cubicBezTo>
                  <a:pt x="7751" y="8122"/>
                  <a:pt x="7858" y="8334"/>
                  <a:pt x="7888" y="8334"/>
                </a:cubicBezTo>
                <a:cubicBezTo>
                  <a:pt x="7888" y="8318"/>
                  <a:pt x="7888" y="8301"/>
                  <a:pt x="7888" y="8285"/>
                </a:cubicBezTo>
              </a:path>
              <a:path w="3746" h="1316">
                <a:moveTo>
                  <a:pt x="7962" y="8012"/>
                </a:moveTo>
                <a:cubicBezTo>
                  <a:pt x="7910" y="8093"/>
                  <a:pt x="7653" y="8375"/>
                  <a:pt x="7789" y="8310"/>
                </a:cubicBezTo>
              </a:path>
              <a:path w="3746" h="1316">
                <a:moveTo>
                  <a:pt x="8508" y="7863"/>
                </a:moveTo>
                <a:cubicBezTo>
                  <a:pt x="8452" y="7870"/>
                  <a:pt x="8369" y="7882"/>
                  <a:pt x="8334" y="7938"/>
                </a:cubicBezTo>
                <a:cubicBezTo>
                  <a:pt x="8302" y="7990"/>
                  <a:pt x="8272" y="8053"/>
                  <a:pt x="8260" y="8111"/>
                </a:cubicBezTo>
                <a:cubicBezTo>
                  <a:pt x="8383" y="8090"/>
                  <a:pt x="8490" y="8054"/>
                  <a:pt x="8607" y="8136"/>
                </a:cubicBezTo>
                <a:cubicBezTo>
                  <a:pt x="8820" y="8285"/>
                  <a:pt x="8430" y="8380"/>
                  <a:pt x="8359" y="8384"/>
                </a:cubicBezTo>
                <a:cubicBezTo>
                  <a:pt x="8318" y="8384"/>
                  <a:pt x="8276" y="8384"/>
                  <a:pt x="8235" y="8384"/>
                </a:cubicBezTo>
              </a:path>
              <a:path w="3746" h="1316">
                <a:moveTo>
                  <a:pt x="7541" y="8756"/>
                </a:moveTo>
                <a:cubicBezTo>
                  <a:pt x="7731" y="8756"/>
                  <a:pt x="7925" y="8702"/>
                  <a:pt x="8111" y="8706"/>
                </a:cubicBezTo>
                <a:cubicBezTo>
                  <a:pt x="8169" y="8725"/>
                  <a:pt x="8175" y="8734"/>
                  <a:pt x="8210" y="8731"/>
                </a:cubicBezTo>
                <a:cubicBezTo>
                  <a:pt x="8217" y="8656"/>
                  <a:pt x="8228" y="8583"/>
                  <a:pt x="8235" y="8508"/>
                </a:cubicBezTo>
              </a:path>
              <a:path w="3746" h="1316">
                <a:moveTo>
                  <a:pt x="8905" y="8682"/>
                </a:moveTo>
                <a:cubicBezTo>
                  <a:pt x="8979" y="8682"/>
                  <a:pt x="9054" y="8682"/>
                  <a:pt x="9128" y="8682"/>
                </a:cubicBezTo>
              </a:path>
              <a:path w="3746" h="1316">
                <a:moveTo>
                  <a:pt x="8830" y="8830"/>
                </a:moveTo>
                <a:cubicBezTo>
                  <a:pt x="8963" y="8830"/>
                  <a:pt x="9013" y="8829"/>
                  <a:pt x="9103" y="88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46640" y="3036960"/>
            <a:ext cx="644400" cy="187200"/>
          </a:xfrm>
          <a:custGeom>
            <a:avLst/>
            <a:gdLst/>
            <a:ahLst/>
            <a:rect l="l" t="t" r="r" b="b"/>
            <a:pathLst>
              <a:path w="1787" h="521">
                <a:moveTo>
                  <a:pt x="9748" y="8508"/>
                </a:moveTo>
                <a:cubicBezTo>
                  <a:pt x="9897" y="8508"/>
                  <a:pt x="10233" y="8610"/>
                  <a:pt x="9996" y="8830"/>
                </a:cubicBezTo>
                <a:cubicBezTo>
                  <a:pt x="9866" y="8951"/>
                  <a:pt x="9707" y="8922"/>
                  <a:pt x="9575" y="8880"/>
                </a:cubicBezTo>
                <a:cubicBezTo>
                  <a:pt x="9679" y="8831"/>
                  <a:pt x="9891" y="8702"/>
                  <a:pt x="9996" y="8806"/>
                </a:cubicBezTo>
                <a:cubicBezTo>
                  <a:pt x="10052" y="8861"/>
                  <a:pt x="10021" y="8855"/>
                  <a:pt x="10096" y="8781"/>
                </a:cubicBezTo>
              </a:path>
              <a:path w="1787" h="521">
                <a:moveTo>
                  <a:pt x="10592" y="8434"/>
                </a:moveTo>
                <a:cubicBezTo>
                  <a:pt x="10564" y="8443"/>
                  <a:pt x="10408" y="8466"/>
                  <a:pt x="10393" y="8483"/>
                </a:cubicBezTo>
                <a:cubicBezTo>
                  <a:pt x="10359" y="8521"/>
                  <a:pt x="10333" y="8568"/>
                  <a:pt x="10294" y="8607"/>
                </a:cubicBezTo>
                <a:cubicBezTo>
                  <a:pt x="10426" y="8607"/>
                  <a:pt x="10530" y="8556"/>
                  <a:pt x="10666" y="8607"/>
                </a:cubicBezTo>
                <a:cubicBezTo>
                  <a:pt x="10934" y="8707"/>
                  <a:pt x="10642" y="8884"/>
                  <a:pt x="10517" y="8905"/>
                </a:cubicBezTo>
                <a:cubicBezTo>
                  <a:pt x="10316" y="8939"/>
                  <a:pt x="10245" y="8909"/>
                  <a:pt x="10244" y="8781"/>
                </a:cubicBezTo>
              </a:path>
              <a:path w="1787" h="521">
                <a:moveTo>
                  <a:pt x="11038" y="8483"/>
                </a:moveTo>
                <a:cubicBezTo>
                  <a:pt x="10981" y="8565"/>
                  <a:pt x="10778" y="8756"/>
                  <a:pt x="10864" y="8880"/>
                </a:cubicBezTo>
                <a:cubicBezTo>
                  <a:pt x="10989" y="9059"/>
                  <a:pt x="11331" y="8958"/>
                  <a:pt x="11361" y="8756"/>
                </a:cubicBezTo>
                <a:cubicBezTo>
                  <a:pt x="11403" y="8468"/>
                  <a:pt x="11168" y="8572"/>
                  <a:pt x="11013" y="8533"/>
                </a:cubicBezTo>
                <a:cubicBezTo>
                  <a:pt x="11013" y="8525"/>
                  <a:pt x="11013" y="8516"/>
                  <a:pt x="11013" y="850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2160" y="2946240"/>
            <a:ext cx="509760" cy="260640"/>
          </a:xfrm>
          <a:custGeom>
            <a:avLst/>
            <a:gdLst/>
            <a:ahLst/>
            <a:rect l="l" t="t" r="r" b="b"/>
            <a:pathLst>
              <a:path w="1415" h="720">
                <a:moveTo>
                  <a:pt x="11757" y="8682"/>
                </a:moveTo>
                <a:cubicBezTo>
                  <a:pt x="11835" y="8728"/>
                  <a:pt x="11907" y="8992"/>
                  <a:pt x="11881" y="8905"/>
                </a:cubicBezTo>
                <a:cubicBezTo>
                  <a:pt x="11873" y="8880"/>
                  <a:pt x="11865" y="8855"/>
                  <a:pt x="11857" y="8830"/>
                </a:cubicBezTo>
              </a:path>
              <a:path w="1415" h="720">
                <a:moveTo>
                  <a:pt x="11881" y="8434"/>
                </a:moveTo>
                <a:lnTo>
                  <a:pt x="11881" y="8434"/>
                </a:lnTo>
              </a:path>
              <a:path w="1415" h="720">
                <a:moveTo>
                  <a:pt x="11881" y="8434"/>
                </a:moveTo>
                <a:lnTo>
                  <a:pt x="11881" y="8434"/>
                </a:lnTo>
              </a:path>
              <a:path w="1415" h="720">
                <a:moveTo>
                  <a:pt x="12278" y="8706"/>
                </a:moveTo>
                <a:cubicBezTo>
                  <a:pt x="12295" y="8768"/>
                  <a:pt x="12303" y="8794"/>
                  <a:pt x="12303" y="8855"/>
                </a:cubicBezTo>
                <a:cubicBezTo>
                  <a:pt x="12283" y="8764"/>
                  <a:pt x="12284" y="8656"/>
                  <a:pt x="12402" y="8632"/>
                </a:cubicBezTo>
                <a:cubicBezTo>
                  <a:pt x="12558" y="8601"/>
                  <a:pt x="12594" y="8743"/>
                  <a:pt x="12650" y="8855"/>
                </a:cubicBezTo>
              </a:path>
              <a:path w="1415" h="720">
                <a:moveTo>
                  <a:pt x="12923" y="8235"/>
                </a:moveTo>
                <a:cubicBezTo>
                  <a:pt x="12949" y="8197"/>
                  <a:pt x="13033" y="8193"/>
                  <a:pt x="13097" y="8186"/>
                </a:cubicBezTo>
                <a:cubicBezTo>
                  <a:pt x="13060" y="8238"/>
                  <a:pt x="12969" y="8280"/>
                  <a:pt x="13072" y="8285"/>
                </a:cubicBezTo>
                <a:cubicBezTo>
                  <a:pt x="13140" y="8285"/>
                  <a:pt x="13161" y="8279"/>
                  <a:pt x="13171" y="8334"/>
                </a:cubicBezTo>
                <a:cubicBezTo>
                  <a:pt x="13131" y="8441"/>
                  <a:pt x="13067" y="8446"/>
                  <a:pt x="12948" y="845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57240" y="3902040"/>
            <a:ext cx="27000" cy="206280"/>
          </a:xfrm>
          <a:custGeom>
            <a:avLst/>
            <a:gdLst/>
            <a:ahLst/>
            <a:rect l="l" t="t" r="r" b="b"/>
            <a:pathLst>
              <a:path w="76" h="571">
                <a:moveTo>
                  <a:pt x="5159" y="10840"/>
                </a:moveTo>
                <a:cubicBezTo>
                  <a:pt x="5229" y="10931"/>
                  <a:pt x="5224" y="11143"/>
                  <a:pt x="5234" y="11261"/>
                </a:cubicBezTo>
                <a:cubicBezTo>
                  <a:pt x="5234" y="11344"/>
                  <a:pt x="5234" y="11360"/>
                  <a:pt x="5234" y="114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2880" y="3902040"/>
            <a:ext cx="142920" cy="1620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5507" y="10864"/>
                </a:moveTo>
                <a:cubicBezTo>
                  <a:pt x="5646" y="10813"/>
                  <a:pt x="5804" y="10858"/>
                  <a:pt x="5829" y="11038"/>
                </a:cubicBezTo>
                <a:cubicBezTo>
                  <a:pt x="5859" y="11256"/>
                  <a:pt x="5658" y="11268"/>
                  <a:pt x="5531" y="11237"/>
                </a:cubicBezTo>
                <a:cubicBezTo>
                  <a:pt x="5561" y="11126"/>
                  <a:pt x="5637" y="11048"/>
                  <a:pt x="5755" y="11162"/>
                </a:cubicBezTo>
                <a:cubicBezTo>
                  <a:pt x="5861" y="11264"/>
                  <a:pt x="5759" y="11276"/>
                  <a:pt x="5904" y="1126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41720" y="3919680"/>
            <a:ext cx="98280" cy="13464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226" y="10939"/>
                </a:moveTo>
                <a:cubicBezTo>
                  <a:pt x="6305" y="11007"/>
                  <a:pt x="6398" y="11105"/>
                  <a:pt x="6474" y="11162"/>
                </a:cubicBezTo>
                <a:cubicBezTo>
                  <a:pt x="6482" y="11162"/>
                  <a:pt x="6491" y="11162"/>
                  <a:pt x="6499" y="11162"/>
                </a:cubicBezTo>
              </a:path>
              <a:path w="274" h="373">
                <a:moveTo>
                  <a:pt x="6474" y="10889"/>
                </a:moveTo>
                <a:cubicBezTo>
                  <a:pt x="6426" y="11015"/>
                  <a:pt x="6250" y="11373"/>
                  <a:pt x="6325" y="11261"/>
                </a:cubicBezTo>
                <a:cubicBezTo>
                  <a:pt x="6342" y="11236"/>
                  <a:pt x="6358" y="11212"/>
                  <a:pt x="6375" y="1118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840120"/>
            <a:ext cx="98640" cy="223920"/>
          </a:xfrm>
          <a:custGeom>
            <a:avLst/>
            <a:gdLst/>
            <a:ahLst/>
            <a:rect l="l" t="t" r="r" b="b"/>
            <a:pathLst>
              <a:path w="274" h="621">
                <a:moveTo>
                  <a:pt x="6772" y="10815"/>
                </a:moveTo>
                <a:cubicBezTo>
                  <a:pt x="6772" y="10909"/>
                  <a:pt x="6729" y="11021"/>
                  <a:pt x="6846" y="11038"/>
                </a:cubicBezTo>
                <a:cubicBezTo>
                  <a:pt x="6935" y="11051"/>
                  <a:pt x="7002" y="11045"/>
                  <a:pt x="7045" y="10988"/>
                </a:cubicBezTo>
              </a:path>
              <a:path w="274" h="621">
                <a:moveTo>
                  <a:pt x="6970" y="10666"/>
                </a:moveTo>
                <a:cubicBezTo>
                  <a:pt x="6970" y="10822"/>
                  <a:pt x="6916" y="11182"/>
                  <a:pt x="6995" y="1128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89080" y="4098960"/>
            <a:ext cx="339840" cy="295200"/>
          </a:xfrm>
          <a:custGeom>
            <a:avLst/>
            <a:gdLst/>
            <a:ahLst/>
            <a:rect l="l" t="t" r="r" b="b"/>
            <a:pathLst>
              <a:path w="944" h="820">
                <a:moveTo>
                  <a:pt x="5804" y="11534"/>
                </a:moveTo>
                <a:cubicBezTo>
                  <a:pt x="5825" y="11618"/>
                  <a:pt x="5827" y="11637"/>
                  <a:pt x="5854" y="11683"/>
                </a:cubicBezTo>
                <a:cubicBezTo>
                  <a:pt x="6039" y="11666"/>
                  <a:pt x="6214" y="11600"/>
                  <a:pt x="6400" y="11584"/>
                </a:cubicBezTo>
                <a:cubicBezTo>
                  <a:pt x="6494" y="11576"/>
                  <a:pt x="6598" y="11578"/>
                  <a:pt x="6672" y="11633"/>
                </a:cubicBezTo>
                <a:cubicBezTo>
                  <a:pt x="6690" y="11565"/>
                  <a:pt x="6709" y="11488"/>
                  <a:pt x="6722" y="11410"/>
                </a:cubicBezTo>
                <a:cubicBezTo>
                  <a:pt x="6722" y="11402"/>
                  <a:pt x="6722" y="11393"/>
                  <a:pt x="6722" y="11385"/>
                </a:cubicBezTo>
              </a:path>
              <a:path w="944" h="820">
                <a:moveTo>
                  <a:pt x="5879" y="11956"/>
                </a:moveTo>
                <a:cubicBezTo>
                  <a:pt x="5856" y="12007"/>
                  <a:pt x="5838" y="12050"/>
                  <a:pt x="5829" y="12105"/>
                </a:cubicBezTo>
                <a:cubicBezTo>
                  <a:pt x="5937" y="12105"/>
                  <a:pt x="6044" y="12105"/>
                  <a:pt x="6152" y="12105"/>
                </a:cubicBezTo>
              </a:path>
              <a:path w="944" h="820">
                <a:moveTo>
                  <a:pt x="6127" y="11857"/>
                </a:moveTo>
                <a:cubicBezTo>
                  <a:pt x="6127" y="12018"/>
                  <a:pt x="6071" y="12165"/>
                  <a:pt x="6201" y="12179"/>
                </a:cubicBezTo>
              </a:path>
              <a:path w="944" h="820">
                <a:moveTo>
                  <a:pt x="6623" y="11782"/>
                </a:moveTo>
                <a:cubicBezTo>
                  <a:pt x="6563" y="11789"/>
                  <a:pt x="6546" y="11794"/>
                  <a:pt x="6499" y="11832"/>
                </a:cubicBezTo>
                <a:cubicBezTo>
                  <a:pt x="6544" y="11968"/>
                  <a:pt x="6682" y="11977"/>
                  <a:pt x="6747" y="12105"/>
                </a:cubicBezTo>
                <a:cubicBezTo>
                  <a:pt x="6747" y="12121"/>
                  <a:pt x="6747" y="12138"/>
                  <a:pt x="6747" y="12154"/>
                </a:cubicBezTo>
                <a:cubicBezTo>
                  <a:pt x="6586" y="12181"/>
                  <a:pt x="6534" y="12117"/>
                  <a:pt x="6623" y="11956"/>
                </a:cubicBezTo>
                <a:cubicBezTo>
                  <a:pt x="6676" y="11860"/>
                  <a:pt x="6730" y="11863"/>
                  <a:pt x="6697" y="1178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0760" y="4187880"/>
            <a:ext cx="71280" cy="152280"/>
          </a:xfrm>
          <a:custGeom>
            <a:avLst/>
            <a:gdLst/>
            <a:ahLst/>
            <a:rect l="l" t="t" r="r" b="b"/>
            <a:pathLst>
              <a:path w="199" h="423">
                <a:moveTo>
                  <a:pt x="7392" y="11683"/>
                </a:moveTo>
                <a:cubicBezTo>
                  <a:pt x="7417" y="11768"/>
                  <a:pt x="7492" y="11919"/>
                  <a:pt x="7565" y="11981"/>
                </a:cubicBezTo>
                <a:cubicBezTo>
                  <a:pt x="7565" y="11973"/>
                  <a:pt x="7565" y="11964"/>
                  <a:pt x="7565" y="11956"/>
                </a:cubicBezTo>
              </a:path>
              <a:path w="199" h="423">
                <a:moveTo>
                  <a:pt x="7590" y="11633"/>
                </a:moveTo>
                <a:cubicBezTo>
                  <a:pt x="7558" y="11704"/>
                  <a:pt x="7398" y="11988"/>
                  <a:pt x="7441" y="12055"/>
                </a:cubicBezTo>
                <a:cubicBezTo>
                  <a:pt x="7458" y="12038"/>
                  <a:pt x="7474" y="12022"/>
                  <a:pt x="7491" y="120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4040" y="4187880"/>
            <a:ext cx="79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8037" y="11633"/>
                </a:moveTo>
                <a:cubicBezTo>
                  <a:pt x="8037" y="11730"/>
                  <a:pt x="7998" y="12090"/>
                  <a:pt x="8062" y="120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81240" y="4160880"/>
            <a:ext cx="115920" cy="144360"/>
          </a:xfrm>
          <a:custGeom>
            <a:avLst/>
            <a:gdLst/>
            <a:ahLst/>
            <a:rect l="l" t="t" r="r" b="b"/>
            <a:pathLst>
              <a:path w="323" h="398">
                <a:moveTo>
                  <a:pt x="8756" y="11559"/>
                </a:moveTo>
                <a:cubicBezTo>
                  <a:pt x="8707" y="11564"/>
                  <a:pt x="8614" y="11556"/>
                  <a:pt x="8607" y="11609"/>
                </a:cubicBezTo>
                <a:cubicBezTo>
                  <a:pt x="8603" y="11641"/>
                  <a:pt x="8607" y="11675"/>
                  <a:pt x="8607" y="11708"/>
                </a:cubicBezTo>
                <a:cubicBezTo>
                  <a:pt x="8697" y="11708"/>
                  <a:pt x="8797" y="11697"/>
                  <a:pt x="8855" y="11782"/>
                </a:cubicBezTo>
                <a:cubicBezTo>
                  <a:pt x="8958" y="11933"/>
                  <a:pt x="8709" y="11949"/>
                  <a:pt x="8632" y="11956"/>
                </a:cubicBezTo>
                <a:cubicBezTo>
                  <a:pt x="8607" y="11956"/>
                  <a:pt x="8583" y="11956"/>
                  <a:pt x="8558" y="119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4214880"/>
            <a:ext cx="71640" cy="7128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1509" y="11757"/>
                </a:moveTo>
                <a:cubicBezTo>
                  <a:pt x="11543" y="11691"/>
                  <a:pt x="11608" y="11708"/>
                  <a:pt x="11683" y="11708"/>
                </a:cubicBezTo>
              </a:path>
              <a:path w="200" h="199">
                <a:moveTo>
                  <a:pt x="11509" y="11906"/>
                </a:moveTo>
                <a:cubicBezTo>
                  <a:pt x="11575" y="11906"/>
                  <a:pt x="11642" y="11906"/>
                  <a:pt x="11708" y="1190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46720" y="4125960"/>
            <a:ext cx="608040" cy="196920"/>
          </a:xfrm>
          <a:custGeom>
            <a:avLst/>
            <a:gdLst/>
            <a:ahLst/>
            <a:rect l="l" t="t" r="r" b="b"/>
            <a:pathLst>
              <a:path w="1687" h="546">
                <a:moveTo>
                  <a:pt x="12353" y="11534"/>
                </a:moveTo>
                <a:cubicBezTo>
                  <a:pt x="12495" y="11525"/>
                  <a:pt x="12631" y="11509"/>
                  <a:pt x="12774" y="11509"/>
                </a:cubicBezTo>
                <a:cubicBezTo>
                  <a:pt x="12729" y="11595"/>
                  <a:pt x="12483" y="11903"/>
                  <a:pt x="12502" y="11981"/>
                </a:cubicBezTo>
                <a:cubicBezTo>
                  <a:pt x="12518" y="11981"/>
                  <a:pt x="12535" y="11981"/>
                  <a:pt x="12551" y="11981"/>
                </a:cubicBezTo>
              </a:path>
              <a:path w="1687" h="546">
                <a:moveTo>
                  <a:pt x="12973" y="11559"/>
                </a:moveTo>
                <a:cubicBezTo>
                  <a:pt x="13143" y="11549"/>
                  <a:pt x="13360" y="11585"/>
                  <a:pt x="13295" y="11832"/>
                </a:cubicBezTo>
                <a:cubicBezTo>
                  <a:pt x="13243" y="12027"/>
                  <a:pt x="13057" y="11998"/>
                  <a:pt x="12923" y="11931"/>
                </a:cubicBezTo>
                <a:cubicBezTo>
                  <a:pt x="13027" y="11858"/>
                  <a:pt x="13134" y="11766"/>
                  <a:pt x="13246" y="11906"/>
                </a:cubicBezTo>
                <a:cubicBezTo>
                  <a:pt x="13309" y="11985"/>
                  <a:pt x="13214" y="12026"/>
                  <a:pt x="13320" y="11956"/>
                </a:cubicBezTo>
              </a:path>
              <a:path w="1687" h="546">
                <a:moveTo>
                  <a:pt x="13816" y="11460"/>
                </a:moveTo>
                <a:cubicBezTo>
                  <a:pt x="13671" y="11559"/>
                  <a:pt x="13383" y="11780"/>
                  <a:pt x="13667" y="11956"/>
                </a:cubicBezTo>
                <a:cubicBezTo>
                  <a:pt x="13846" y="12067"/>
                  <a:pt x="14152" y="11878"/>
                  <a:pt x="14015" y="11658"/>
                </a:cubicBezTo>
                <a:cubicBezTo>
                  <a:pt x="13900" y="11590"/>
                  <a:pt x="13869" y="11570"/>
                  <a:pt x="13791" y="115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41960" y="4017960"/>
            <a:ext cx="633240" cy="322200"/>
          </a:xfrm>
          <a:custGeom>
            <a:avLst/>
            <a:gdLst/>
            <a:ahLst/>
            <a:rect l="l" t="t" r="r" b="b"/>
            <a:pathLst>
              <a:path w="1762" h="894">
                <a:moveTo>
                  <a:pt x="14734" y="11733"/>
                </a:moveTo>
                <a:cubicBezTo>
                  <a:pt x="14707" y="11785"/>
                  <a:pt x="14656" y="11625"/>
                  <a:pt x="14585" y="11757"/>
                </a:cubicBezTo>
                <a:cubicBezTo>
                  <a:pt x="14447" y="12014"/>
                  <a:pt x="14700" y="12030"/>
                  <a:pt x="14858" y="12030"/>
                </a:cubicBezTo>
              </a:path>
              <a:path w="1762" h="894">
                <a:moveTo>
                  <a:pt x="15081" y="11807"/>
                </a:moveTo>
                <a:cubicBezTo>
                  <a:pt x="15081" y="11891"/>
                  <a:pt x="15112" y="12013"/>
                  <a:pt x="15106" y="12005"/>
                </a:cubicBezTo>
                <a:cubicBezTo>
                  <a:pt x="15085" y="11975"/>
                  <a:pt x="15099" y="11697"/>
                  <a:pt x="15205" y="11757"/>
                </a:cubicBezTo>
                <a:cubicBezTo>
                  <a:pt x="15280" y="11857"/>
                  <a:pt x="15304" y="11890"/>
                  <a:pt x="15354" y="11956"/>
                </a:cubicBezTo>
                <a:cubicBezTo>
                  <a:pt x="15354" y="11972"/>
                  <a:pt x="15354" y="11989"/>
                  <a:pt x="15354" y="12005"/>
                </a:cubicBezTo>
                <a:cubicBezTo>
                  <a:pt x="15354" y="11916"/>
                  <a:pt x="15373" y="11813"/>
                  <a:pt x="15453" y="11757"/>
                </a:cubicBezTo>
                <a:cubicBezTo>
                  <a:pt x="15623" y="11639"/>
                  <a:pt x="15665" y="11910"/>
                  <a:pt x="15677" y="12005"/>
                </a:cubicBezTo>
                <a:cubicBezTo>
                  <a:pt x="15646" y="12068"/>
                  <a:pt x="15637" y="12070"/>
                  <a:pt x="15652" y="11956"/>
                </a:cubicBezTo>
              </a:path>
              <a:path w="1762" h="894">
                <a:moveTo>
                  <a:pt x="15974" y="11162"/>
                </a:moveTo>
                <a:cubicBezTo>
                  <a:pt x="16060" y="11162"/>
                  <a:pt x="16152" y="11145"/>
                  <a:pt x="16222" y="11187"/>
                </a:cubicBezTo>
                <a:cubicBezTo>
                  <a:pt x="16177" y="11238"/>
                  <a:pt x="16144" y="11273"/>
                  <a:pt x="16123" y="11336"/>
                </a:cubicBezTo>
                <a:cubicBezTo>
                  <a:pt x="16177" y="11351"/>
                  <a:pt x="16372" y="11396"/>
                  <a:pt x="16297" y="11485"/>
                </a:cubicBezTo>
                <a:cubicBezTo>
                  <a:pt x="16259" y="11530"/>
                  <a:pt x="16120" y="11600"/>
                  <a:pt x="16098" y="1153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2000" y="4983120"/>
            <a:ext cx="679320" cy="1133640"/>
          </a:xfrm>
          <a:custGeom>
            <a:avLst/>
            <a:gdLst/>
            <a:ahLst/>
            <a:rect l="l" t="t" r="r" b="b"/>
            <a:pathLst>
              <a:path w="1886" h="3151">
                <a:moveTo>
                  <a:pt x="10220" y="14089"/>
                </a:moveTo>
                <a:cubicBezTo>
                  <a:pt x="10241" y="14012"/>
                  <a:pt x="10203" y="13763"/>
                  <a:pt x="10046" y="13841"/>
                </a:cubicBezTo>
                <a:cubicBezTo>
                  <a:pt x="9926" y="13961"/>
                  <a:pt x="9887" y="13996"/>
                  <a:pt x="9872" y="14114"/>
                </a:cubicBezTo>
                <a:cubicBezTo>
                  <a:pt x="9889" y="14139"/>
                  <a:pt x="9905" y="14163"/>
                  <a:pt x="9922" y="14188"/>
                </a:cubicBezTo>
                <a:cubicBezTo>
                  <a:pt x="10093" y="14114"/>
                  <a:pt x="10141" y="14091"/>
                  <a:pt x="10244" y="13940"/>
                </a:cubicBezTo>
                <a:cubicBezTo>
                  <a:pt x="10259" y="14089"/>
                  <a:pt x="10295" y="14238"/>
                  <a:pt x="10319" y="14387"/>
                </a:cubicBezTo>
                <a:cubicBezTo>
                  <a:pt x="10319" y="14472"/>
                  <a:pt x="10333" y="14422"/>
                  <a:pt x="10368" y="14213"/>
                </a:cubicBezTo>
              </a:path>
              <a:path w="1886" h="3151">
                <a:moveTo>
                  <a:pt x="10492" y="13940"/>
                </a:moveTo>
                <a:cubicBezTo>
                  <a:pt x="10526" y="14108"/>
                  <a:pt x="10573" y="14280"/>
                  <a:pt x="10691" y="14412"/>
                </a:cubicBezTo>
                <a:cubicBezTo>
                  <a:pt x="10699" y="14412"/>
                  <a:pt x="10708" y="14412"/>
                  <a:pt x="10716" y="14412"/>
                </a:cubicBezTo>
              </a:path>
              <a:path w="1886" h="3151">
                <a:moveTo>
                  <a:pt x="10790" y="13866"/>
                </a:moveTo>
                <a:cubicBezTo>
                  <a:pt x="10770" y="13912"/>
                  <a:pt x="10556" y="14381"/>
                  <a:pt x="10592" y="14387"/>
                </a:cubicBezTo>
                <a:cubicBezTo>
                  <a:pt x="10617" y="14370"/>
                  <a:pt x="10641" y="14354"/>
                  <a:pt x="10666" y="14337"/>
                </a:cubicBezTo>
              </a:path>
              <a:path w="1886" h="3151">
                <a:moveTo>
                  <a:pt x="11336" y="13866"/>
                </a:moveTo>
                <a:cubicBezTo>
                  <a:pt x="11241" y="13851"/>
                  <a:pt x="10970" y="13884"/>
                  <a:pt x="11038" y="14064"/>
                </a:cubicBezTo>
                <a:cubicBezTo>
                  <a:pt x="11073" y="14158"/>
                  <a:pt x="11201" y="14020"/>
                  <a:pt x="11261" y="13940"/>
                </a:cubicBezTo>
                <a:cubicBezTo>
                  <a:pt x="11278" y="13932"/>
                  <a:pt x="11294" y="13923"/>
                  <a:pt x="11311" y="13915"/>
                </a:cubicBezTo>
                <a:cubicBezTo>
                  <a:pt x="11278" y="14098"/>
                  <a:pt x="11287" y="14264"/>
                  <a:pt x="11212" y="14436"/>
                </a:cubicBezTo>
              </a:path>
              <a:path w="1886" h="3151">
                <a:moveTo>
                  <a:pt x="10244" y="14908"/>
                </a:moveTo>
                <a:cubicBezTo>
                  <a:pt x="10261" y="14969"/>
                  <a:pt x="10269" y="14996"/>
                  <a:pt x="10269" y="15056"/>
                </a:cubicBezTo>
                <a:cubicBezTo>
                  <a:pt x="10478" y="14987"/>
                  <a:pt x="10637" y="14982"/>
                  <a:pt x="10864" y="14982"/>
                </a:cubicBezTo>
                <a:cubicBezTo>
                  <a:pt x="10905" y="14982"/>
                  <a:pt x="10947" y="14982"/>
                  <a:pt x="10988" y="14982"/>
                </a:cubicBezTo>
                <a:cubicBezTo>
                  <a:pt x="11020" y="14825"/>
                  <a:pt x="11072" y="14700"/>
                  <a:pt x="10939" y="14684"/>
                </a:cubicBezTo>
              </a:path>
              <a:path w="1886" h="3151">
                <a:moveTo>
                  <a:pt x="10344" y="15404"/>
                </a:moveTo>
                <a:cubicBezTo>
                  <a:pt x="10213" y="15441"/>
                  <a:pt x="10083" y="15515"/>
                  <a:pt x="10021" y="15627"/>
                </a:cubicBezTo>
                <a:cubicBezTo>
                  <a:pt x="10174" y="15682"/>
                  <a:pt x="10278" y="15719"/>
                  <a:pt x="10393" y="15825"/>
                </a:cubicBezTo>
                <a:cubicBezTo>
                  <a:pt x="10281" y="15867"/>
                  <a:pt x="9960" y="15905"/>
                  <a:pt x="10170" y="15677"/>
                </a:cubicBezTo>
                <a:cubicBezTo>
                  <a:pt x="10225" y="15617"/>
                  <a:pt x="10313" y="15568"/>
                  <a:pt x="10393" y="15553"/>
                </a:cubicBezTo>
              </a:path>
              <a:path w="1886" h="3151">
                <a:moveTo>
                  <a:pt x="10716" y="15304"/>
                </a:moveTo>
                <a:cubicBezTo>
                  <a:pt x="10742" y="15489"/>
                  <a:pt x="10765" y="15664"/>
                  <a:pt x="10765" y="15850"/>
                </a:cubicBezTo>
              </a:path>
              <a:path w="1886" h="3151">
                <a:moveTo>
                  <a:pt x="10468" y="16123"/>
                </a:moveTo>
                <a:cubicBezTo>
                  <a:pt x="10579" y="16085"/>
                  <a:pt x="10672" y="16079"/>
                  <a:pt x="10790" y="16073"/>
                </a:cubicBezTo>
                <a:cubicBezTo>
                  <a:pt x="10839" y="16202"/>
                  <a:pt x="10785" y="16309"/>
                  <a:pt x="10765" y="16446"/>
                </a:cubicBezTo>
                <a:cubicBezTo>
                  <a:pt x="10765" y="16462"/>
                  <a:pt x="10765" y="16479"/>
                  <a:pt x="10765" y="16495"/>
                </a:cubicBezTo>
              </a:path>
              <a:path w="1886" h="3151">
                <a:moveTo>
                  <a:pt x="9451" y="16991"/>
                </a:moveTo>
                <a:cubicBezTo>
                  <a:pt x="9761" y="16932"/>
                  <a:pt x="10100" y="16899"/>
                  <a:pt x="10418" y="16867"/>
                </a:cubicBezTo>
                <a:cubicBezTo>
                  <a:pt x="10510" y="16858"/>
                  <a:pt x="10968" y="16858"/>
                  <a:pt x="10988" y="1686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107040"/>
            <a:ext cx="1098720" cy="474840"/>
          </a:xfrm>
          <a:custGeom>
            <a:avLst/>
            <a:gdLst/>
            <a:ahLst/>
            <a:rect l="l" t="t" r="r" b="b"/>
            <a:pathLst>
              <a:path w="3052" h="1316">
                <a:moveTo>
                  <a:pt x="10765" y="17264"/>
                </a:moveTo>
                <a:cubicBezTo>
                  <a:pt x="10901" y="17279"/>
                  <a:pt x="11003" y="17274"/>
                  <a:pt x="11137" y="17264"/>
                </a:cubicBezTo>
                <a:cubicBezTo>
                  <a:pt x="11110" y="17382"/>
                  <a:pt x="11033" y="17472"/>
                  <a:pt x="10988" y="17587"/>
                </a:cubicBezTo>
                <a:cubicBezTo>
                  <a:pt x="10988" y="17595"/>
                  <a:pt x="10988" y="17603"/>
                  <a:pt x="10988" y="17611"/>
                </a:cubicBezTo>
              </a:path>
              <a:path w="3052" h="1316">
                <a:moveTo>
                  <a:pt x="9798" y="17289"/>
                </a:moveTo>
                <a:cubicBezTo>
                  <a:pt x="9724" y="17350"/>
                  <a:pt x="9640" y="17367"/>
                  <a:pt x="9624" y="17438"/>
                </a:cubicBezTo>
                <a:cubicBezTo>
                  <a:pt x="9605" y="17515"/>
                  <a:pt x="9612" y="17532"/>
                  <a:pt x="9575" y="17562"/>
                </a:cubicBezTo>
                <a:cubicBezTo>
                  <a:pt x="9676" y="17562"/>
                  <a:pt x="9892" y="17522"/>
                  <a:pt x="9897" y="17686"/>
                </a:cubicBezTo>
                <a:cubicBezTo>
                  <a:pt x="9901" y="17824"/>
                  <a:pt x="9593" y="17914"/>
                  <a:pt x="9525" y="17810"/>
                </a:cubicBezTo>
                <a:cubicBezTo>
                  <a:pt x="9533" y="17785"/>
                  <a:pt x="9542" y="17760"/>
                  <a:pt x="9550" y="17735"/>
                </a:cubicBezTo>
              </a:path>
              <a:path w="3052" h="1316">
                <a:moveTo>
                  <a:pt x="10195" y="17314"/>
                </a:moveTo>
                <a:cubicBezTo>
                  <a:pt x="10195" y="17440"/>
                  <a:pt x="10141" y="17562"/>
                  <a:pt x="10145" y="17686"/>
                </a:cubicBezTo>
                <a:cubicBezTo>
                  <a:pt x="10150" y="17836"/>
                  <a:pt x="10412" y="17690"/>
                  <a:pt x="10443" y="17611"/>
                </a:cubicBezTo>
                <a:cubicBezTo>
                  <a:pt x="10443" y="17586"/>
                  <a:pt x="10443" y="17562"/>
                  <a:pt x="10443" y="17537"/>
                </a:cubicBezTo>
                <a:cubicBezTo>
                  <a:pt x="10291" y="17548"/>
                  <a:pt x="10292" y="17593"/>
                  <a:pt x="10195" y="17735"/>
                </a:cubicBezTo>
                <a:cubicBezTo>
                  <a:pt x="10195" y="17821"/>
                  <a:pt x="10229" y="17826"/>
                  <a:pt x="10344" y="17735"/>
                </a:cubicBezTo>
              </a:path>
              <a:path w="3052" h="1316">
                <a:moveTo>
                  <a:pt x="11410" y="17512"/>
                </a:moveTo>
                <a:cubicBezTo>
                  <a:pt x="11410" y="17612"/>
                  <a:pt x="11388" y="17747"/>
                  <a:pt x="11485" y="17810"/>
                </a:cubicBezTo>
                <a:cubicBezTo>
                  <a:pt x="11611" y="17892"/>
                  <a:pt x="11601" y="17662"/>
                  <a:pt x="11584" y="17611"/>
                </a:cubicBezTo>
                <a:cubicBezTo>
                  <a:pt x="11621" y="17789"/>
                  <a:pt x="11709" y="18053"/>
                  <a:pt x="11559" y="18207"/>
                </a:cubicBezTo>
                <a:cubicBezTo>
                  <a:pt x="11326" y="18446"/>
                  <a:pt x="11153" y="18263"/>
                  <a:pt x="11237" y="18033"/>
                </a:cubicBezTo>
              </a:path>
              <a:path w="3052" h="1316">
                <a:moveTo>
                  <a:pt x="12154" y="17611"/>
                </a:moveTo>
                <a:cubicBezTo>
                  <a:pt x="12132" y="17527"/>
                  <a:pt x="11980" y="17514"/>
                  <a:pt x="11906" y="17537"/>
                </a:cubicBezTo>
                <a:cubicBezTo>
                  <a:pt x="11732" y="17592"/>
                  <a:pt x="11749" y="17672"/>
                  <a:pt x="11757" y="17810"/>
                </a:cubicBezTo>
                <a:cubicBezTo>
                  <a:pt x="12037" y="17891"/>
                  <a:pt x="12028" y="17773"/>
                  <a:pt x="12055" y="17512"/>
                </a:cubicBezTo>
              </a:path>
              <a:path w="3052" h="1316">
                <a:moveTo>
                  <a:pt x="11906" y="17239"/>
                </a:moveTo>
                <a:cubicBezTo>
                  <a:pt x="11918" y="17298"/>
                  <a:pt x="11981" y="17739"/>
                  <a:pt x="12055" y="17735"/>
                </a:cubicBezTo>
                <a:cubicBezTo>
                  <a:pt x="12080" y="17719"/>
                  <a:pt x="12104" y="17702"/>
                  <a:pt x="12129" y="17686"/>
                </a:cubicBezTo>
              </a:path>
              <a:path w="3052" h="1316">
                <a:moveTo>
                  <a:pt x="12328" y="16991"/>
                </a:moveTo>
                <a:cubicBezTo>
                  <a:pt x="12352" y="17064"/>
                  <a:pt x="12486" y="16963"/>
                  <a:pt x="12551" y="16966"/>
                </a:cubicBezTo>
                <a:cubicBezTo>
                  <a:pt x="12559" y="16974"/>
                  <a:pt x="12568" y="16983"/>
                  <a:pt x="12576" y="16991"/>
                </a:cubicBezTo>
                <a:cubicBezTo>
                  <a:pt x="12525" y="17042"/>
                  <a:pt x="12488" y="17091"/>
                  <a:pt x="12427" y="17115"/>
                </a:cubicBezTo>
                <a:cubicBezTo>
                  <a:pt x="12488" y="17125"/>
                  <a:pt x="12591" y="17130"/>
                  <a:pt x="12576" y="17214"/>
                </a:cubicBezTo>
                <a:cubicBezTo>
                  <a:pt x="12559" y="17308"/>
                  <a:pt x="12446" y="17289"/>
                  <a:pt x="12378" y="17289"/>
                </a:cubicBezTo>
                <a:cubicBezTo>
                  <a:pt x="12353" y="17289"/>
                  <a:pt x="12345" y="17289"/>
                  <a:pt x="12353" y="17264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09840" y="4545000"/>
            <a:ext cx="54000" cy="250920"/>
          </a:xfrm>
          <a:custGeom>
            <a:avLst/>
            <a:gdLst/>
            <a:ahLst/>
            <a:rect l="l" t="t" r="r" b="b"/>
            <a:pathLst>
              <a:path w="150" h="695">
                <a:moveTo>
                  <a:pt x="4192" y="12650"/>
                </a:moveTo>
                <a:cubicBezTo>
                  <a:pt x="4192" y="12592"/>
                  <a:pt x="4217" y="12898"/>
                  <a:pt x="4217" y="12898"/>
                </a:cubicBezTo>
                <a:cubicBezTo>
                  <a:pt x="4228" y="12989"/>
                  <a:pt x="4242" y="13164"/>
                  <a:pt x="4242" y="13072"/>
                </a:cubicBezTo>
                <a:cubicBezTo>
                  <a:pt x="4242" y="12923"/>
                  <a:pt x="4215" y="12529"/>
                  <a:pt x="4242" y="12675"/>
                </a:cubicBezTo>
                <a:cubicBezTo>
                  <a:pt x="4272" y="12836"/>
                  <a:pt x="4285" y="12983"/>
                  <a:pt x="4291" y="13146"/>
                </a:cubicBezTo>
                <a:cubicBezTo>
                  <a:pt x="4291" y="13290"/>
                  <a:pt x="4298" y="13153"/>
                  <a:pt x="4291" y="13097"/>
                </a:cubicBezTo>
                <a:cubicBezTo>
                  <a:pt x="4283" y="13028"/>
                  <a:pt x="4247" y="12686"/>
                  <a:pt x="4266" y="12725"/>
                </a:cubicBezTo>
                <a:cubicBezTo>
                  <a:pt x="4336" y="12873"/>
                  <a:pt x="4335" y="13084"/>
                  <a:pt x="4341" y="13246"/>
                </a:cubicBezTo>
                <a:cubicBezTo>
                  <a:pt x="4341" y="13254"/>
                  <a:pt x="4341" y="13263"/>
                  <a:pt x="4341" y="13271"/>
                </a:cubicBezTo>
                <a:cubicBezTo>
                  <a:pt x="4319" y="13098"/>
                  <a:pt x="4287" y="12924"/>
                  <a:pt x="4266" y="12750"/>
                </a:cubicBezTo>
                <a:cubicBezTo>
                  <a:pt x="4255" y="12659"/>
                  <a:pt x="4286" y="12882"/>
                  <a:pt x="4291" y="12973"/>
                </a:cubicBezTo>
                <a:cubicBezTo>
                  <a:pt x="4297" y="13097"/>
                  <a:pt x="4316" y="13367"/>
                  <a:pt x="4291" y="13246"/>
                </a:cubicBezTo>
                <a:cubicBezTo>
                  <a:pt x="4283" y="13213"/>
                  <a:pt x="4274" y="13179"/>
                  <a:pt x="4266" y="13146"/>
                </a:cubicBezTo>
                <a:cubicBezTo>
                  <a:pt x="4264" y="13123"/>
                  <a:pt x="4242" y="12633"/>
                  <a:pt x="4242" y="12774"/>
                </a:cubicBezTo>
                <a:cubicBezTo>
                  <a:pt x="4242" y="12943"/>
                  <a:pt x="4252" y="13053"/>
                  <a:pt x="4242" y="13221"/>
                </a:cubicBezTo>
                <a:cubicBezTo>
                  <a:pt x="4242" y="13386"/>
                  <a:pt x="4242" y="13088"/>
                  <a:pt x="4242" y="12923"/>
                </a:cubicBezTo>
                <a:cubicBezTo>
                  <a:pt x="4242" y="12659"/>
                  <a:pt x="4237" y="12995"/>
                  <a:pt x="4242" y="13047"/>
                </a:cubicBezTo>
                <a:cubicBezTo>
                  <a:pt x="4262" y="13249"/>
                  <a:pt x="4265" y="12909"/>
                  <a:pt x="4266" y="1289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055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Find the volume of the p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2743200"/>
            <a:ext cx="3124080" cy="167652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114800"/>
            <a:ext cx="2057400" cy="1295280"/>
          </a:xfrm>
          <a:prstGeom prst="cube">
            <a:avLst>
              <a:gd name="adj" fmla="val 6666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4495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2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666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3581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0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876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3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8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114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666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) l= 5in  w=10in  h=5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4419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90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6520" y="60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43120" y="5599080"/>
            <a:ext cx="1125720" cy="384120"/>
          </a:xfrm>
          <a:custGeom>
            <a:avLst/>
            <a:gdLst/>
            <a:ahLst/>
            <a:rect l="l" t="t" r="r" b="b"/>
            <a:pathLst>
              <a:path w="3127" h="1067">
                <a:moveTo>
                  <a:pt x="7466" y="15900"/>
                </a:moveTo>
                <a:cubicBezTo>
                  <a:pt x="7387" y="15926"/>
                  <a:pt x="7396" y="16190"/>
                  <a:pt x="7392" y="16222"/>
                </a:cubicBezTo>
                <a:cubicBezTo>
                  <a:pt x="7376" y="16354"/>
                  <a:pt x="7354" y="16487"/>
                  <a:pt x="7342" y="16619"/>
                </a:cubicBezTo>
              </a:path>
              <a:path w="3127" h="1067">
                <a:moveTo>
                  <a:pt x="7913" y="15925"/>
                </a:moveTo>
                <a:cubicBezTo>
                  <a:pt x="7793" y="15996"/>
                  <a:pt x="7735" y="16208"/>
                  <a:pt x="7714" y="16346"/>
                </a:cubicBezTo>
                <a:cubicBezTo>
                  <a:pt x="7714" y="16482"/>
                  <a:pt x="7708" y="16521"/>
                  <a:pt x="7764" y="16594"/>
                </a:cubicBezTo>
                <a:cubicBezTo>
                  <a:pt x="8030" y="16609"/>
                  <a:pt x="8170" y="16480"/>
                  <a:pt x="8136" y="16173"/>
                </a:cubicBezTo>
                <a:cubicBezTo>
                  <a:pt x="8115" y="15980"/>
                  <a:pt x="8031" y="15971"/>
                  <a:pt x="7888" y="15949"/>
                </a:cubicBezTo>
              </a:path>
              <a:path w="3127" h="1067">
                <a:moveTo>
                  <a:pt x="8359" y="15949"/>
                </a:moveTo>
                <a:cubicBezTo>
                  <a:pt x="8325" y="16068"/>
                  <a:pt x="8296" y="16155"/>
                  <a:pt x="8334" y="16272"/>
                </a:cubicBezTo>
                <a:cubicBezTo>
                  <a:pt x="8493" y="16272"/>
                  <a:pt x="8658" y="16313"/>
                  <a:pt x="8731" y="16148"/>
                </a:cubicBezTo>
                <a:cubicBezTo>
                  <a:pt x="8748" y="16098"/>
                  <a:pt x="8764" y="16049"/>
                  <a:pt x="8781" y="15999"/>
                </a:cubicBezTo>
              </a:path>
              <a:path w="3127" h="1067">
                <a:moveTo>
                  <a:pt x="8632" y="15801"/>
                </a:moveTo>
                <a:cubicBezTo>
                  <a:pt x="8632" y="15978"/>
                  <a:pt x="8637" y="16145"/>
                  <a:pt x="8657" y="16321"/>
                </a:cubicBezTo>
                <a:cubicBezTo>
                  <a:pt x="8668" y="16421"/>
                  <a:pt x="8653" y="16603"/>
                  <a:pt x="8756" y="16570"/>
                </a:cubicBezTo>
              </a:path>
              <a:path w="3127" h="1067">
                <a:moveTo>
                  <a:pt x="9227" y="16272"/>
                </a:moveTo>
                <a:cubicBezTo>
                  <a:pt x="9197" y="16377"/>
                  <a:pt x="9178" y="16703"/>
                  <a:pt x="9178" y="16594"/>
                </a:cubicBezTo>
                <a:cubicBezTo>
                  <a:pt x="9178" y="16569"/>
                  <a:pt x="9178" y="16545"/>
                  <a:pt x="9178" y="16520"/>
                </a:cubicBezTo>
              </a:path>
              <a:path w="3127" h="1067">
                <a:moveTo>
                  <a:pt x="9079" y="15949"/>
                </a:moveTo>
                <a:lnTo>
                  <a:pt x="9079" y="15949"/>
                </a:lnTo>
                <a:lnTo>
                  <a:pt x="9079" y="15949"/>
                </a:lnTo>
                <a:lnTo>
                  <a:pt x="9079" y="15949"/>
                </a:lnTo>
              </a:path>
              <a:path w="3127" h="1067">
                <a:moveTo>
                  <a:pt x="9079" y="15949"/>
                </a:moveTo>
                <a:lnTo>
                  <a:pt x="9079" y="15949"/>
                </a:lnTo>
              </a:path>
              <a:path w="3127" h="1067">
                <a:moveTo>
                  <a:pt x="9451" y="16346"/>
                </a:moveTo>
                <a:cubicBezTo>
                  <a:pt x="9472" y="16455"/>
                  <a:pt x="9475" y="16481"/>
                  <a:pt x="9500" y="16545"/>
                </a:cubicBezTo>
                <a:cubicBezTo>
                  <a:pt x="9500" y="16584"/>
                  <a:pt x="9498" y="16360"/>
                  <a:pt x="9525" y="16297"/>
                </a:cubicBezTo>
                <a:cubicBezTo>
                  <a:pt x="9611" y="16097"/>
                  <a:pt x="9779" y="16189"/>
                  <a:pt x="9872" y="16321"/>
                </a:cubicBezTo>
                <a:cubicBezTo>
                  <a:pt x="9915" y="16383"/>
                  <a:pt x="9922" y="16550"/>
                  <a:pt x="9922" y="16396"/>
                </a:cubicBezTo>
              </a:path>
              <a:path w="3127" h="1067">
                <a:moveTo>
                  <a:pt x="10071" y="15627"/>
                </a:moveTo>
                <a:cubicBezTo>
                  <a:pt x="10112" y="15558"/>
                  <a:pt x="10251" y="15474"/>
                  <a:pt x="10244" y="15627"/>
                </a:cubicBezTo>
                <a:cubicBezTo>
                  <a:pt x="10223" y="15671"/>
                  <a:pt x="10220" y="15683"/>
                  <a:pt x="10195" y="15701"/>
                </a:cubicBezTo>
                <a:cubicBezTo>
                  <a:pt x="10285" y="15701"/>
                  <a:pt x="10559" y="15672"/>
                  <a:pt x="10443" y="15850"/>
                </a:cubicBezTo>
                <a:cubicBezTo>
                  <a:pt x="10344" y="15925"/>
                  <a:pt x="10311" y="15950"/>
                  <a:pt x="10220" y="1592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72160" y="55450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256" y="15404"/>
                </a:moveTo>
                <a:lnTo>
                  <a:pt x="18256" y="15404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0360" y="4973760"/>
            <a:ext cx="1017720" cy="357120"/>
          </a:xfrm>
          <a:custGeom>
            <a:avLst/>
            <a:gdLst/>
            <a:ahLst/>
            <a:rect l="l" t="t" r="r" b="b"/>
            <a:pathLst>
              <a:path w="2829" h="993">
                <a:moveTo>
                  <a:pt x="19000" y="14114"/>
                </a:moveTo>
                <a:cubicBezTo>
                  <a:pt x="19000" y="14155"/>
                  <a:pt x="19000" y="14197"/>
                  <a:pt x="19000" y="14238"/>
                </a:cubicBezTo>
                <a:cubicBezTo>
                  <a:pt x="19031" y="14131"/>
                  <a:pt x="19073" y="14024"/>
                  <a:pt x="19174" y="13965"/>
                </a:cubicBezTo>
                <a:cubicBezTo>
                  <a:pt x="19237" y="13928"/>
                  <a:pt x="19352" y="13920"/>
                  <a:pt x="19422" y="13915"/>
                </a:cubicBezTo>
                <a:cubicBezTo>
                  <a:pt x="19430" y="13915"/>
                  <a:pt x="19439" y="13915"/>
                  <a:pt x="19447" y="13915"/>
                </a:cubicBezTo>
                <a:cubicBezTo>
                  <a:pt x="19375" y="14178"/>
                  <a:pt x="19290" y="14441"/>
                  <a:pt x="19224" y="14709"/>
                </a:cubicBezTo>
                <a:cubicBezTo>
                  <a:pt x="19216" y="14742"/>
                  <a:pt x="19207" y="14775"/>
                  <a:pt x="19199" y="14808"/>
                </a:cubicBezTo>
              </a:path>
              <a:path w="2829" h="993">
                <a:moveTo>
                  <a:pt x="19745" y="14015"/>
                </a:moveTo>
                <a:cubicBezTo>
                  <a:pt x="19823" y="13963"/>
                  <a:pt x="19851" y="13945"/>
                  <a:pt x="19918" y="13940"/>
                </a:cubicBezTo>
                <a:cubicBezTo>
                  <a:pt x="20118" y="14142"/>
                  <a:pt x="19953" y="14335"/>
                  <a:pt x="19794" y="14560"/>
                </a:cubicBezTo>
                <a:cubicBezTo>
                  <a:pt x="19716" y="14657"/>
                  <a:pt x="19699" y="14668"/>
                  <a:pt x="19670" y="14734"/>
                </a:cubicBezTo>
                <a:cubicBezTo>
                  <a:pt x="19854" y="14692"/>
                  <a:pt x="20039" y="14644"/>
                  <a:pt x="20216" y="14585"/>
                </a:cubicBezTo>
              </a:path>
              <a:path w="2829" h="993">
                <a:moveTo>
                  <a:pt x="20290" y="13990"/>
                </a:moveTo>
                <a:cubicBezTo>
                  <a:pt x="20173" y="14349"/>
                  <a:pt x="20134" y="14343"/>
                  <a:pt x="20315" y="14660"/>
                </a:cubicBezTo>
                <a:cubicBezTo>
                  <a:pt x="20625" y="14568"/>
                  <a:pt x="20970" y="14342"/>
                  <a:pt x="20712" y="13940"/>
                </a:cubicBezTo>
                <a:cubicBezTo>
                  <a:pt x="20556" y="13829"/>
                  <a:pt x="20519" y="13787"/>
                  <a:pt x="20389" y="13816"/>
                </a:cubicBezTo>
              </a:path>
              <a:path w="2829" h="993">
                <a:moveTo>
                  <a:pt x="21059" y="14213"/>
                </a:moveTo>
                <a:cubicBezTo>
                  <a:pt x="21044" y="14326"/>
                  <a:pt x="21034" y="14422"/>
                  <a:pt x="21034" y="14536"/>
                </a:cubicBezTo>
                <a:cubicBezTo>
                  <a:pt x="21034" y="14417"/>
                  <a:pt x="21026" y="14126"/>
                  <a:pt x="21134" y="14064"/>
                </a:cubicBezTo>
                <a:cubicBezTo>
                  <a:pt x="21320" y="13957"/>
                  <a:pt x="21393" y="14357"/>
                  <a:pt x="21431" y="14436"/>
                </a:cubicBezTo>
                <a:cubicBezTo>
                  <a:pt x="21431" y="14428"/>
                  <a:pt x="21431" y="14420"/>
                  <a:pt x="21431" y="14412"/>
                </a:cubicBezTo>
                <a:cubicBezTo>
                  <a:pt x="21431" y="14312"/>
                  <a:pt x="21467" y="13705"/>
                  <a:pt x="21729" y="14039"/>
                </a:cubicBezTo>
                <a:cubicBezTo>
                  <a:pt x="21815" y="14149"/>
                  <a:pt x="21828" y="14760"/>
                  <a:pt x="21828" y="14337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813200"/>
            <a:ext cx="107640" cy="169920"/>
          </a:xfrm>
          <a:custGeom>
            <a:avLst/>
            <a:gdLst/>
            <a:ahLst/>
            <a:rect l="l" t="t" r="r" b="b"/>
            <a:pathLst>
              <a:path w="299" h="472">
                <a:moveTo>
                  <a:pt x="22126" y="13419"/>
                </a:moveTo>
                <a:cubicBezTo>
                  <a:pt x="22177" y="13390"/>
                  <a:pt x="22384" y="13348"/>
                  <a:pt x="22299" y="13494"/>
                </a:cubicBezTo>
                <a:cubicBezTo>
                  <a:pt x="22266" y="13527"/>
                  <a:pt x="22233" y="13560"/>
                  <a:pt x="22200" y="13593"/>
                </a:cubicBezTo>
                <a:cubicBezTo>
                  <a:pt x="22192" y="13610"/>
                  <a:pt x="22183" y="13626"/>
                  <a:pt x="22175" y="13643"/>
                </a:cubicBezTo>
                <a:cubicBezTo>
                  <a:pt x="22223" y="13627"/>
                  <a:pt x="22516" y="13496"/>
                  <a:pt x="22374" y="13692"/>
                </a:cubicBezTo>
                <a:cubicBezTo>
                  <a:pt x="22250" y="13791"/>
                  <a:pt x="22210" y="13824"/>
                  <a:pt x="22101" y="1384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1800" y="2803680"/>
            <a:ext cx="2706480" cy="107640"/>
          </a:xfrm>
          <a:custGeom>
            <a:avLst/>
            <a:gdLst/>
            <a:ahLst/>
            <a:rect l="l" t="t" r="r" b="b"/>
            <a:pathLst>
              <a:path w="7517" h="298">
                <a:moveTo>
                  <a:pt x="2505" y="8086"/>
                </a:moveTo>
                <a:cubicBezTo>
                  <a:pt x="2671" y="8058"/>
                  <a:pt x="2835" y="8057"/>
                  <a:pt x="3001" y="8037"/>
                </a:cubicBezTo>
                <a:cubicBezTo>
                  <a:pt x="3160" y="8017"/>
                  <a:pt x="3312" y="8012"/>
                  <a:pt x="3473" y="8012"/>
                </a:cubicBezTo>
                <a:cubicBezTo>
                  <a:pt x="3578" y="8012"/>
                  <a:pt x="3669" y="8000"/>
                  <a:pt x="3770" y="7987"/>
                </a:cubicBezTo>
                <a:cubicBezTo>
                  <a:pt x="3913" y="7969"/>
                  <a:pt x="4047" y="7962"/>
                  <a:pt x="4192" y="7962"/>
                </a:cubicBezTo>
                <a:cubicBezTo>
                  <a:pt x="4303" y="7962"/>
                  <a:pt x="4406" y="7990"/>
                  <a:pt x="4514" y="7987"/>
                </a:cubicBezTo>
                <a:cubicBezTo>
                  <a:pt x="4660" y="7982"/>
                  <a:pt x="4810" y="7962"/>
                  <a:pt x="4961" y="7962"/>
                </a:cubicBezTo>
                <a:cubicBezTo>
                  <a:pt x="5072" y="7962"/>
                  <a:pt x="5173" y="7991"/>
                  <a:pt x="5283" y="7987"/>
                </a:cubicBezTo>
                <a:cubicBezTo>
                  <a:pt x="5396" y="7983"/>
                  <a:pt x="5495" y="7983"/>
                  <a:pt x="5606" y="7987"/>
                </a:cubicBezTo>
                <a:cubicBezTo>
                  <a:pt x="5724" y="7991"/>
                  <a:pt x="5836" y="7999"/>
                  <a:pt x="5953" y="8012"/>
                </a:cubicBezTo>
                <a:cubicBezTo>
                  <a:pt x="6093" y="8027"/>
                  <a:pt x="6235" y="8045"/>
                  <a:pt x="6375" y="8062"/>
                </a:cubicBezTo>
                <a:cubicBezTo>
                  <a:pt x="6508" y="8078"/>
                  <a:pt x="6634" y="8086"/>
                  <a:pt x="6772" y="8086"/>
                </a:cubicBezTo>
                <a:cubicBezTo>
                  <a:pt x="6908" y="8086"/>
                  <a:pt x="7036" y="8078"/>
                  <a:pt x="7169" y="8062"/>
                </a:cubicBezTo>
                <a:cubicBezTo>
                  <a:pt x="7299" y="8046"/>
                  <a:pt x="7434" y="8020"/>
                  <a:pt x="7565" y="8012"/>
                </a:cubicBezTo>
                <a:cubicBezTo>
                  <a:pt x="7731" y="8002"/>
                  <a:pt x="7897" y="7991"/>
                  <a:pt x="8062" y="7987"/>
                </a:cubicBezTo>
                <a:cubicBezTo>
                  <a:pt x="8199" y="7984"/>
                  <a:pt x="8324" y="7967"/>
                  <a:pt x="8458" y="7962"/>
                </a:cubicBezTo>
                <a:cubicBezTo>
                  <a:pt x="8658" y="7954"/>
                  <a:pt x="8856" y="7964"/>
                  <a:pt x="9054" y="7938"/>
                </a:cubicBezTo>
                <a:cubicBezTo>
                  <a:pt x="9187" y="7920"/>
                  <a:pt x="9320" y="7906"/>
                  <a:pt x="9451" y="7888"/>
                </a:cubicBezTo>
                <a:cubicBezTo>
                  <a:pt x="9534" y="7876"/>
                  <a:pt x="9616" y="7870"/>
                  <a:pt x="9699" y="7863"/>
                </a:cubicBezTo>
                <a:cubicBezTo>
                  <a:pt x="9893" y="7847"/>
                  <a:pt x="9926" y="7860"/>
                  <a:pt x="10021" y="778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1840" y="1062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EX2.) Volume = 288 cubic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height = 12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idth= 8in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hat is the lengt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V=lw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288 = 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●8●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288 = l●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288   9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  <a:ea typeface="Arial"/>
              </a:rPr>
              <a:t> = 3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438280" y="5791320"/>
          <a:ext cx="2541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791320"/>
                    <a:ext cx="2541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92240" y="157320"/>
            <a:ext cx="76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Use the volume formula to find the missing dimens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) V= 3264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8f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=17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) V= 15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=10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=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048120" y="2286000"/>
          <a:ext cx="13968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1396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048120" y="3352680"/>
          <a:ext cx="13968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352680"/>
                    <a:ext cx="1396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5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d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ighborhood pool in a rectangular prism design is 24 feet wide and 10 feet deep. It’s volume needs to be 7200 cubic feet. When designing the pool, how long should it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7880" y="230040"/>
            <a:ext cx="823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Objective: Students will calculate the volume of rectangular pris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2:29:41Z</dcterms:created>
  <dc:creator>TAMMY  COON</dc:creator>
  <dc:description/>
  <dc:language>en-US</dc:language>
  <cp:lastModifiedBy>deanne elizabeth mcgrath</cp:lastModifiedBy>
  <dcterms:modified xsi:type="dcterms:W3CDTF">2011-02-23T18:49:33Z</dcterms:modified>
  <cp:revision>16</cp:revision>
  <dc:subject/>
  <dc:title>Unit 7: Measurement</dc:title>
</cp:coreProperties>
</file>